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D782-3E60-49D3-B42D-AD1C385BA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4390-DD85-411B-88A0-756D516A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3C0B-9DBB-44C4-B648-40ECFAE25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C664-FAC4-47B2-A0C2-AF54C2D2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2E15-53E3-4554-81B0-19D9B36A2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9711-2772-44F8-901C-FC2CB088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6A9D-1E7A-471D-966C-ACC8670A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C269-41AF-4500-8A02-6F8D90B0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B169-3515-4CB6-95B1-7113FC50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6615-A0C7-45A1-98C9-9807FFA9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E131-71C9-40C7-9FE6-96F168A2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87D9-D233-4AAD-840B-234EBCEC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7C30-8348-4FCE-B20E-673E396E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EF7A-1F02-4C8F-A681-610D3865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FF6F-8225-4A84-8371-0E45BDDB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9304-E91A-494F-AE32-6B06FC4A0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C7A8-DE1B-4E23-935D-D3A8F02E0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C10E-BB4F-4FC0-B6C9-3E5FF56C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314F-4F1C-4B1D-AF81-E5CEDAD8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021B-4CD5-4C72-8CE7-D49A1121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0126-C92D-438E-94B8-48AD16BD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FD92-5864-499E-A2F4-6EF939F6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63E8-027C-4FEB-ACCA-CAE8CBF6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B149-187D-4E81-BE46-F9B9BC3E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53B4-0710-43FD-BA8B-2BBBD7417C6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24A4-7431-4644-99CE-38139582A8F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Comic Sans MS"/>
              </a:rPr>
              <a:t>Opener: Bisect the following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)  A 14 foot long piece of wo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)  A 108 degree ang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)  A 25 inch long line seg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)  A right ang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938160" y="241200"/>
            <a:ext cx="857160" cy="473040"/>
          </a:xfrm>
          <a:custGeom>
            <a:avLst/>
            <a:gdLst/>
            <a:ahLst/>
            <a:rect l="l" t="t" r="r" b="b"/>
            <a:pathLst>
              <a:path w="2383" h="1315">
                <a:moveTo>
                  <a:pt x="2679" y="1290"/>
                </a:moveTo>
                <a:cubicBezTo>
                  <a:pt x="2732" y="1453"/>
                  <a:pt x="2908" y="1838"/>
                  <a:pt x="2902" y="1984"/>
                </a:cubicBezTo>
                <a:cubicBezTo>
                  <a:pt x="2886" y="1976"/>
                  <a:pt x="2869" y="1968"/>
                  <a:pt x="2853" y="1960"/>
                </a:cubicBezTo>
                <a:cubicBezTo>
                  <a:pt x="2714" y="1654"/>
                  <a:pt x="2405" y="1149"/>
                  <a:pt x="2679" y="819"/>
                </a:cubicBezTo>
                <a:cubicBezTo>
                  <a:pt x="2737" y="794"/>
                  <a:pt x="2795" y="769"/>
                  <a:pt x="2853" y="744"/>
                </a:cubicBezTo>
                <a:cubicBezTo>
                  <a:pt x="3115" y="919"/>
                  <a:pt x="3281" y="1182"/>
                  <a:pt x="2952" y="1463"/>
                </a:cubicBezTo>
                <a:cubicBezTo>
                  <a:pt x="2795" y="1597"/>
                  <a:pt x="2744" y="1502"/>
                  <a:pt x="2629" y="1488"/>
                </a:cubicBezTo>
              </a:path>
              <a:path w="2383" h="1315">
                <a:moveTo>
                  <a:pt x="3225" y="1215"/>
                </a:moveTo>
                <a:cubicBezTo>
                  <a:pt x="3309" y="1201"/>
                  <a:pt x="3424" y="1173"/>
                  <a:pt x="3497" y="1141"/>
                </a:cubicBezTo>
                <a:cubicBezTo>
                  <a:pt x="3505" y="1133"/>
                  <a:pt x="3514" y="1124"/>
                  <a:pt x="3522" y="1116"/>
                </a:cubicBezTo>
                <a:cubicBezTo>
                  <a:pt x="3439" y="1005"/>
                  <a:pt x="3324" y="829"/>
                  <a:pt x="3175" y="1017"/>
                </a:cubicBezTo>
                <a:cubicBezTo>
                  <a:pt x="3044" y="1182"/>
                  <a:pt x="3161" y="1529"/>
                  <a:pt x="3398" y="1513"/>
                </a:cubicBezTo>
                <a:cubicBezTo>
                  <a:pt x="3580" y="1436"/>
                  <a:pt x="3642" y="1404"/>
                  <a:pt x="3696" y="1265"/>
                </a:cubicBezTo>
              </a:path>
              <a:path w="2383" h="1315">
                <a:moveTo>
                  <a:pt x="3746" y="1017"/>
                </a:moveTo>
                <a:cubicBezTo>
                  <a:pt x="3753" y="1137"/>
                  <a:pt x="3778" y="1247"/>
                  <a:pt x="3795" y="1364"/>
                </a:cubicBezTo>
                <a:cubicBezTo>
                  <a:pt x="3738" y="1212"/>
                  <a:pt x="3662" y="1083"/>
                  <a:pt x="3770" y="918"/>
                </a:cubicBezTo>
                <a:cubicBezTo>
                  <a:pt x="3850" y="796"/>
                  <a:pt x="3939" y="845"/>
                  <a:pt x="4043" y="868"/>
                </a:cubicBezTo>
              </a:path>
              <a:path w="2383" h="1315">
                <a:moveTo>
                  <a:pt x="4118" y="943"/>
                </a:moveTo>
                <a:cubicBezTo>
                  <a:pt x="4187" y="1183"/>
                  <a:pt x="4321" y="1432"/>
                  <a:pt x="4366" y="1687"/>
                </a:cubicBezTo>
                <a:cubicBezTo>
                  <a:pt x="4366" y="1794"/>
                  <a:pt x="4366" y="1802"/>
                  <a:pt x="4366" y="1860"/>
                </a:cubicBezTo>
                <a:cubicBezTo>
                  <a:pt x="4197" y="1555"/>
                  <a:pt x="4052" y="1228"/>
                  <a:pt x="4142" y="868"/>
                </a:cubicBezTo>
                <a:cubicBezTo>
                  <a:pt x="4238" y="726"/>
                  <a:pt x="4264" y="678"/>
                  <a:pt x="4390" y="670"/>
                </a:cubicBezTo>
                <a:cubicBezTo>
                  <a:pt x="4638" y="858"/>
                  <a:pt x="4798" y="1033"/>
                  <a:pt x="4490" y="1290"/>
                </a:cubicBezTo>
                <a:cubicBezTo>
                  <a:pt x="4363" y="1396"/>
                  <a:pt x="4315" y="1363"/>
                  <a:pt x="4192" y="1315"/>
                </a:cubicBezTo>
              </a:path>
              <a:path w="2383" h="1315">
                <a:moveTo>
                  <a:pt x="4986" y="1141"/>
                </a:moveTo>
                <a:cubicBezTo>
                  <a:pt x="4986" y="1260"/>
                  <a:pt x="5002" y="1180"/>
                  <a:pt x="4986" y="1166"/>
                </a:cubicBezTo>
                <a:cubicBezTo>
                  <a:pt x="4969" y="1158"/>
                  <a:pt x="4953" y="1149"/>
                  <a:pt x="4936" y="11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29240" y="268200"/>
            <a:ext cx="1009800" cy="633600"/>
          </a:xfrm>
          <a:custGeom>
            <a:avLst/>
            <a:gdLst/>
            <a:ahLst/>
            <a:rect l="l" t="t" r="r" b="b"/>
            <a:pathLst>
              <a:path w="2804" h="1762">
                <a:moveTo>
                  <a:pt x="17859" y="1712"/>
                </a:moveTo>
                <a:cubicBezTo>
                  <a:pt x="18028" y="1599"/>
                  <a:pt x="18084" y="1325"/>
                  <a:pt x="18157" y="1141"/>
                </a:cubicBezTo>
                <a:cubicBezTo>
                  <a:pt x="18205" y="1018"/>
                  <a:pt x="18285" y="867"/>
                  <a:pt x="18331" y="744"/>
                </a:cubicBezTo>
                <a:cubicBezTo>
                  <a:pt x="18421" y="905"/>
                  <a:pt x="18464" y="1104"/>
                  <a:pt x="18479" y="1315"/>
                </a:cubicBezTo>
                <a:cubicBezTo>
                  <a:pt x="18489" y="1453"/>
                  <a:pt x="18479" y="1597"/>
                  <a:pt x="18479" y="1736"/>
                </a:cubicBezTo>
              </a:path>
              <a:path w="2804" h="1762">
                <a:moveTo>
                  <a:pt x="18083" y="1488"/>
                </a:moveTo>
                <a:cubicBezTo>
                  <a:pt x="18206" y="1456"/>
                  <a:pt x="18537" y="1292"/>
                  <a:pt x="18653" y="1339"/>
                </a:cubicBezTo>
                <a:cubicBezTo>
                  <a:pt x="18771" y="1387"/>
                  <a:pt x="18793" y="1634"/>
                  <a:pt x="18802" y="1736"/>
                </a:cubicBezTo>
                <a:cubicBezTo>
                  <a:pt x="18779" y="1645"/>
                  <a:pt x="18756" y="1558"/>
                  <a:pt x="18752" y="1463"/>
                </a:cubicBezTo>
                <a:cubicBezTo>
                  <a:pt x="18749" y="1390"/>
                  <a:pt x="18786" y="1252"/>
                  <a:pt x="18901" y="1290"/>
                </a:cubicBezTo>
                <a:cubicBezTo>
                  <a:pt x="19101" y="1356"/>
                  <a:pt x="19093" y="1604"/>
                  <a:pt x="19124" y="1761"/>
                </a:cubicBezTo>
                <a:cubicBezTo>
                  <a:pt x="19143" y="1819"/>
                  <a:pt x="19152" y="1825"/>
                  <a:pt x="19149" y="1860"/>
                </a:cubicBezTo>
              </a:path>
              <a:path w="2804" h="1762">
                <a:moveTo>
                  <a:pt x="19794" y="1612"/>
                </a:moveTo>
                <a:cubicBezTo>
                  <a:pt x="19711" y="1504"/>
                  <a:pt x="19588" y="1316"/>
                  <a:pt x="19422" y="1364"/>
                </a:cubicBezTo>
                <a:cubicBezTo>
                  <a:pt x="19263" y="1410"/>
                  <a:pt x="19128" y="1805"/>
                  <a:pt x="19323" y="1885"/>
                </a:cubicBezTo>
                <a:cubicBezTo>
                  <a:pt x="19562" y="1983"/>
                  <a:pt x="19724" y="1733"/>
                  <a:pt x="19794" y="1563"/>
                </a:cubicBezTo>
                <a:cubicBezTo>
                  <a:pt x="19786" y="1555"/>
                  <a:pt x="19777" y="1546"/>
                  <a:pt x="19769" y="1538"/>
                </a:cubicBezTo>
                <a:cubicBezTo>
                  <a:pt x="19863" y="1731"/>
                  <a:pt x="20019" y="1946"/>
                  <a:pt x="19918" y="2183"/>
                </a:cubicBezTo>
                <a:cubicBezTo>
                  <a:pt x="19837" y="2373"/>
                  <a:pt x="19202" y="2736"/>
                  <a:pt x="19323" y="2307"/>
                </a:cubicBezTo>
                <a:cubicBezTo>
                  <a:pt x="19373" y="2208"/>
                  <a:pt x="19422" y="2108"/>
                  <a:pt x="19472" y="2009"/>
                </a:cubicBezTo>
              </a:path>
              <a:path w="2804" h="1762">
                <a:moveTo>
                  <a:pt x="19993" y="992"/>
                </a:moveTo>
                <a:cubicBezTo>
                  <a:pt x="19993" y="1214"/>
                  <a:pt x="19976" y="1442"/>
                  <a:pt x="20017" y="1662"/>
                </a:cubicBezTo>
                <a:cubicBezTo>
                  <a:pt x="20065" y="1806"/>
                  <a:pt x="20078" y="1851"/>
                  <a:pt x="20166" y="1910"/>
                </a:cubicBezTo>
                <a:cubicBezTo>
                  <a:pt x="20452" y="1806"/>
                  <a:pt x="20593" y="1666"/>
                  <a:pt x="20613" y="1339"/>
                </a:cubicBezTo>
                <a:cubicBezTo>
                  <a:pt x="20605" y="1314"/>
                  <a:pt x="20596" y="1290"/>
                  <a:pt x="20588" y="1265"/>
                </a:cubicBezTo>
                <a:cubicBezTo>
                  <a:pt x="20453" y="1355"/>
                  <a:pt x="20228" y="1610"/>
                  <a:pt x="20513" y="1736"/>
                </a:cubicBezTo>
                <a:cubicBezTo>
                  <a:pt x="20563" y="1736"/>
                  <a:pt x="20612" y="1736"/>
                  <a:pt x="20662" y="173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46960" y="1670040"/>
            <a:ext cx="376200" cy="2928960"/>
          </a:xfrm>
          <a:custGeom>
            <a:avLst/>
            <a:gdLst/>
            <a:ahLst/>
            <a:rect l="l" t="t" r="r" b="b"/>
            <a:pathLst>
              <a:path w="1043" h="8137">
                <a:moveTo>
                  <a:pt x="20910" y="7739"/>
                </a:moveTo>
                <a:cubicBezTo>
                  <a:pt x="21031" y="7709"/>
                  <a:pt x="21161" y="7660"/>
                  <a:pt x="21282" y="7615"/>
                </a:cubicBezTo>
              </a:path>
              <a:path w="1043" h="8137">
                <a:moveTo>
                  <a:pt x="20687" y="4638"/>
                </a:moveTo>
                <a:lnTo>
                  <a:pt x="20687" y="4638"/>
                </a:lnTo>
              </a:path>
              <a:path w="1043" h="8137">
                <a:moveTo>
                  <a:pt x="21679" y="12725"/>
                </a:moveTo>
                <a:cubicBezTo>
                  <a:pt x="21723" y="12747"/>
                  <a:pt x="21708" y="12770"/>
                  <a:pt x="21729" y="127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77040" y="1670040"/>
            <a:ext cx="527040" cy="1285920"/>
          </a:xfrm>
          <a:custGeom>
            <a:avLst/>
            <a:gdLst/>
            <a:ahLst/>
            <a:rect l="l" t="t" r="r" b="b"/>
            <a:pathLst>
              <a:path w="1464" h="3573">
                <a:moveTo>
                  <a:pt x="20737" y="6846"/>
                </a:moveTo>
                <a:cubicBezTo>
                  <a:pt x="20730" y="6825"/>
                  <a:pt x="20712" y="6778"/>
                  <a:pt x="20712" y="6821"/>
                </a:cubicBezTo>
                <a:cubicBezTo>
                  <a:pt x="20712" y="6912"/>
                  <a:pt x="20712" y="7003"/>
                  <a:pt x="20712" y="7094"/>
                </a:cubicBezTo>
                <a:cubicBezTo>
                  <a:pt x="20712" y="7041"/>
                  <a:pt x="20712" y="6689"/>
                  <a:pt x="20712" y="6821"/>
                </a:cubicBezTo>
                <a:cubicBezTo>
                  <a:pt x="20712" y="6925"/>
                  <a:pt x="20702" y="7173"/>
                  <a:pt x="20712" y="7069"/>
                </a:cubicBezTo>
                <a:cubicBezTo>
                  <a:pt x="20721" y="6977"/>
                  <a:pt x="20752" y="6911"/>
                  <a:pt x="20687" y="6846"/>
                </a:cubicBezTo>
              </a:path>
              <a:path w="1464" h="3573">
                <a:moveTo>
                  <a:pt x="20464" y="7565"/>
                </a:moveTo>
                <a:cubicBezTo>
                  <a:pt x="20464" y="7623"/>
                  <a:pt x="20464" y="7632"/>
                  <a:pt x="20464" y="7665"/>
                </a:cubicBezTo>
                <a:cubicBezTo>
                  <a:pt x="20455" y="7629"/>
                  <a:pt x="20399" y="7519"/>
                  <a:pt x="20439" y="7491"/>
                </a:cubicBezTo>
                <a:cubicBezTo>
                  <a:pt x="20505" y="7445"/>
                  <a:pt x="20701" y="7403"/>
                  <a:pt x="20786" y="7367"/>
                </a:cubicBezTo>
                <a:cubicBezTo>
                  <a:pt x="20794" y="7367"/>
                  <a:pt x="20803" y="7367"/>
                  <a:pt x="20811" y="7367"/>
                </a:cubicBezTo>
                <a:cubicBezTo>
                  <a:pt x="20781" y="7590"/>
                  <a:pt x="20746" y="7813"/>
                  <a:pt x="20737" y="8037"/>
                </a:cubicBezTo>
                <a:cubicBezTo>
                  <a:pt x="20737" y="8070"/>
                  <a:pt x="20737" y="8070"/>
                  <a:pt x="20737" y="8012"/>
                </a:cubicBezTo>
              </a:path>
              <a:path w="1464" h="3573">
                <a:moveTo>
                  <a:pt x="21258" y="7417"/>
                </a:moveTo>
                <a:cubicBezTo>
                  <a:pt x="21258" y="7307"/>
                  <a:pt x="21244" y="7282"/>
                  <a:pt x="21158" y="7218"/>
                </a:cubicBezTo>
                <a:cubicBezTo>
                  <a:pt x="21067" y="7386"/>
                  <a:pt x="21058" y="7494"/>
                  <a:pt x="21084" y="7689"/>
                </a:cubicBezTo>
                <a:cubicBezTo>
                  <a:pt x="21094" y="7768"/>
                  <a:pt x="21120" y="7818"/>
                  <a:pt x="21134" y="7888"/>
                </a:cubicBezTo>
              </a:path>
              <a:path w="1464" h="3573">
                <a:moveTo>
                  <a:pt x="21406" y="7268"/>
                </a:moveTo>
                <a:cubicBezTo>
                  <a:pt x="21428" y="7421"/>
                  <a:pt x="21392" y="7559"/>
                  <a:pt x="21406" y="7714"/>
                </a:cubicBezTo>
                <a:cubicBezTo>
                  <a:pt x="21419" y="7857"/>
                  <a:pt x="21446" y="7871"/>
                  <a:pt x="21580" y="7838"/>
                </a:cubicBezTo>
                <a:cubicBezTo>
                  <a:pt x="21641" y="7823"/>
                  <a:pt x="21666" y="7826"/>
                  <a:pt x="21679" y="7789"/>
                </a:cubicBezTo>
              </a:path>
              <a:path w="1464" h="3573">
                <a:moveTo>
                  <a:pt x="21208" y="7615"/>
                </a:moveTo>
                <a:cubicBezTo>
                  <a:pt x="21322" y="7586"/>
                  <a:pt x="21469" y="7561"/>
                  <a:pt x="21580" y="7516"/>
                </a:cubicBezTo>
                <a:cubicBezTo>
                  <a:pt x="21588" y="7508"/>
                  <a:pt x="21597" y="7499"/>
                  <a:pt x="21605" y="7491"/>
                </a:cubicBezTo>
              </a:path>
              <a:path w="1464" h="3573">
                <a:moveTo>
                  <a:pt x="20762" y="6921"/>
                </a:moveTo>
                <a:cubicBezTo>
                  <a:pt x="20754" y="6921"/>
                  <a:pt x="20745" y="6921"/>
                  <a:pt x="20737" y="6921"/>
                </a:cubicBezTo>
                <a:cubicBezTo>
                  <a:pt x="20737" y="6871"/>
                  <a:pt x="20737" y="6822"/>
                  <a:pt x="20737" y="6772"/>
                </a:cubicBezTo>
                <a:cubicBezTo>
                  <a:pt x="20722" y="6748"/>
                  <a:pt x="20719" y="6748"/>
                  <a:pt x="20712" y="6697"/>
                </a:cubicBezTo>
                <a:cubicBezTo>
                  <a:pt x="20697" y="6673"/>
                  <a:pt x="20690" y="6675"/>
                  <a:pt x="20687" y="6623"/>
                </a:cubicBezTo>
                <a:cubicBezTo>
                  <a:pt x="20672" y="6362"/>
                  <a:pt x="20679" y="6081"/>
                  <a:pt x="20712" y="5829"/>
                </a:cubicBezTo>
                <a:cubicBezTo>
                  <a:pt x="20733" y="5668"/>
                  <a:pt x="20708" y="5479"/>
                  <a:pt x="20687" y="5333"/>
                </a:cubicBezTo>
                <a:cubicBezTo>
                  <a:pt x="20658" y="5129"/>
                  <a:pt x="20685" y="4877"/>
                  <a:pt x="20712" y="4688"/>
                </a:cubicBezTo>
                <a:cubicBezTo>
                  <a:pt x="20712" y="4663"/>
                  <a:pt x="20712" y="4655"/>
                  <a:pt x="20712" y="4638"/>
                </a:cubicBezTo>
              </a:path>
              <a:path w="1464" h="3573">
                <a:moveTo>
                  <a:pt x="20216" y="6970"/>
                </a:moveTo>
                <a:cubicBezTo>
                  <a:pt x="20257" y="6850"/>
                  <a:pt x="20233" y="6748"/>
                  <a:pt x="20216" y="6623"/>
                </a:cubicBezTo>
                <a:cubicBezTo>
                  <a:pt x="20216" y="6615"/>
                  <a:pt x="20216" y="6606"/>
                  <a:pt x="20216" y="6598"/>
                </a:cubicBezTo>
                <a:cubicBezTo>
                  <a:pt x="20279" y="6560"/>
                  <a:pt x="20360" y="6551"/>
                  <a:pt x="20439" y="6548"/>
                </a:cubicBezTo>
                <a:cubicBezTo>
                  <a:pt x="20573" y="6543"/>
                  <a:pt x="20703" y="6528"/>
                  <a:pt x="20836" y="6524"/>
                </a:cubicBezTo>
                <a:cubicBezTo>
                  <a:pt x="20944" y="6520"/>
                  <a:pt x="21025" y="6490"/>
                  <a:pt x="21059" y="6598"/>
                </a:cubicBezTo>
                <a:cubicBezTo>
                  <a:pt x="21084" y="6678"/>
                  <a:pt x="21084" y="6740"/>
                  <a:pt x="21084" y="6821"/>
                </a:cubicBezTo>
              </a:path>
              <a:path w="1464" h="3573">
                <a:moveTo>
                  <a:pt x="20613" y="6871"/>
                </a:moveTo>
                <a:cubicBezTo>
                  <a:pt x="20613" y="6971"/>
                  <a:pt x="20610" y="7059"/>
                  <a:pt x="20638" y="7144"/>
                </a:cubicBezTo>
                <a:cubicBezTo>
                  <a:pt x="20652" y="7186"/>
                  <a:pt x="20663" y="7251"/>
                  <a:pt x="20613" y="7169"/>
                </a:cubicBezTo>
              </a:path>
              <a:path w="1464" h="3573">
                <a:moveTo>
                  <a:pt x="20588" y="7020"/>
                </a:moveTo>
                <a:cubicBezTo>
                  <a:pt x="20613" y="7020"/>
                  <a:pt x="20621" y="7020"/>
                  <a:pt x="20613" y="6995"/>
                </a:cubicBezTo>
                <a:cubicBezTo>
                  <a:pt x="20613" y="7020"/>
                  <a:pt x="20613" y="7028"/>
                  <a:pt x="20638" y="7020"/>
                </a:cubicBezTo>
                <a:cubicBezTo>
                  <a:pt x="20649" y="7064"/>
                  <a:pt x="20675" y="7095"/>
                  <a:pt x="20687" y="7144"/>
                </a:cubicBezTo>
                <a:cubicBezTo>
                  <a:pt x="20694" y="7173"/>
                  <a:pt x="20687" y="7213"/>
                  <a:pt x="20687" y="7243"/>
                </a:cubicBezTo>
                <a:cubicBezTo>
                  <a:pt x="20721" y="7265"/>
                  <a:pt x="20712" y="7291"/>
                  <a:pt x="20712" y="7342"/>
                </a:cubicBezTo>
                <a:cubicBezTo>
                  <a:pt x="20750" y="7355"/>
                  <a:pt x="20737" y="7372"/>
                  <a:pt x="20737" y="7417"/>
                </a:cubicBezTo>
                <a:cubicBezTo>
                  <a:pt x="20737" y="7463"/>
                  <a:pt x="20754" y="7440"/>
                  <a:pt x="20762" y="7417"/>
                </a:cubicBezTo>
              </a:path>
              <a:path w="1464" h="3573">
                <a:moveTo>
                  <a:pt x="20290" y="6970"/>
                </a:moveTo>
                <a:cubicBezTo>
                  <a:pt x="20290" y="7023"/>
                  <a:pt x="20256" y="7187"/>
                  <a:pt x="20315" y="7218"/>
                </a:cubicBezTo>
                <a:cubicBezTo>
                  <a:pt x="20419" y="7273"/>
                  <a:pt x="20654" y="7200"/>
                  <a:pt x="20762" y="7193"/>
                </a:cubicBezTo>
                <a:cubicBezTo>
                  <a:pt x="20855" y="7187"/>
                  <a:pt x="20943" y="7177"/>
                  <a:pt x="21034" y="7169"/>
                </a:cubicBezTo>
                <a:cubicBezTo>
                  <a:pt x="21058" y="7167"/>
                  <a:pt x="21084" y="7169"/>
                  <a:pt x="21109" y="7169"/>
                </a:cubicBezTo>
                <a:cubicBezTo>
                  <a:pt x="21109" y="7078"/>
                  <a:pt x="21109" y="6987"/>
                  <a:pt x="21109" y="6896"/>
                </a:cubicBezTo>
              </a:path>
              <a:path w="1464" h="3573">
                <a:moveTo>
                  <a:pt x="20762" y="8210"/>
                </a:moveTo>
                <a:cubicBezTo>
                  <a:pt x="20745" y="8160"/>
                  <a:pt x="20733" y="8181"/>
                  <a:pt x="20910" y="8136"/>
                </a:cubicBezTo>
                <a:cubicBezTo>
                  <a:pt x="21106" y="8087"/>
                  <a:pt x="21312" y="8061"/>
                  <a:pt x="21506" y="8012"/>
                </a:cubicBezTo>
                <a:cubicBezTo>
                  <a:pt x="21447" y="8012"/>
                  <a:pt x="21406" y="8019"/>
                  <a:pt x="21357" y="8037"/>
                </a:cubicBezTo>
                <a:cubicBezTo>
                  <a:pt x="21114" y="8074"/>
                  <a:pt x="20871" y="8113"/>
                  <a:pt x="20638" y="8186"/>
                </a:cubicBezTo>
                <a:cubicBezTo>
                  <a:pt x="20786" y="8186"/>
                  <a:pt x="20995" y="8122"/>
                  <a:pt x="21134" y="8086"/>
                </a:cubicBezTo>
                <a:cubicBezTo>
                  <a:pt x="21140" y="8084"/>
                  <a:pt x="21595" y="7977"/>
                  <a:pt x="21555" y="7987"/>
                </a:cubicBezTo>
                <a:cubicBezTo>
                  <a:pt x="21522" y="7995"/>
                  <a:pt x="21489" y="8004"/>
                  <a:pt x="21456" y="8012"/>
                </a:cubicBezTo>
                <a:cubicBezTo>
                  <a:pt x="21164" y="8062"/>
                  <a:pt x="20469" y="7915"/>
                  <a:pt x="20588" y="8186"/>
                </a:cubicBezTo>
                <a:cubicBezTo>
                  <a:pt x="20613" y="8186"/>
                  <a:pt x="20637" y="8186"/>
                  <a:pt x="20662" y="8186"/>
                </a:cubicBezTo>
                <a:cubicBezTo>
                  <a:pt x="20975" y="8084"/>
                  <a:pt x="21290" y="7980"/>
                  <a:pt x="21605" y="7888"/>
                </a:cubicBezTo>
                <a:cubicBezTo>
                  <a:pt x="21665" y="7871"/>
                  <a:pt x="21609" y="7953"/>
                  <a:pt x="21605" y="796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72240" y="3367080"/>
            <a:ext cx="563760" cy="1241280"/>
          </a:xfrm>
          <a:custGeom>
            <a:avLst/>
            <a:gdLst/>
            <a:ahLst/>
            <a:rect l="l" t="t" r="r" b="b"/>
            <a:pathLst>
              <a:path w="1564" h="3449">
                <a:moveTo>
                  <a:pt x="21977" y="12378"/>
                </a:moveTo>
                <a:cubicBezTo>
                  <a:pt x="21925" y="12378"/>
                  <a:pt x="21866" y="12383"/>
                  <a:pt x="21828" y="12427"/>
                </a:cubicBezTo>
                <a:cubicBezTo>
                  <a:pt x="21783" y="12479"/>
                  <a:pt x="21800" y="12505"/>
                  <a:pt x="21828" y="12526"/>
                </a:cubicBezTo>
                <a:cubicBezTo>
                  <a:pt x="21900" y="12580"/>
                  <a:pt x="21996" y="12521"/>
                  <a:pt x="22076" y="12576"/>
                </a:cubicBezTo>
                <a:cubicBezTo>
                  <a:pt x="22213" y="12670"/>
                  <a:pt x="22076" y="12781"/>
                  <a:pt x="21977" y="12799"/>
                </a:cubicBezTo>
                <a:cubicBezTo>
                  <a:pt x="21944" y="12799"/>
                  <a:pt x="21911" y="12799"/>
                  <a:pt x="21878" y="12799"/>
                </a:cubicBezTo>
              </a:path>
              <a:path w="1564" h="3449">
                <a:moveTo>
                  <a:pt x="22374" y="12278"/>
                </a:moveTo>
                <a:cubicBezTo>
                  <a:pt x="22382" y="12328"/>
                  <a:pt x="22355" y="12453"/>
                  <a:pt x="22399" y="12427"/>
                </a:cubicBezTo>
                <a:cubicBezTo>
                  <a:pt x="22415" y="12411"/>
                  <a:pt x="22432" y="12394"/>
                  <a:pt x="22448" y="12378"/>
                </a:cubicBezTo>
              </a:path>
              <a:path w="1564" h="3449">
                <a:moveTo>
                  <a:pt x="22547" y="12278"/>
                </a:moveTo>
                <a:cubicBezTo>
                  <a:pt x="22569" y="12345"/>
                  <a:pt x="22597" y="12406"/>
                  <a:pt x="22597" y="12477"/>
                </a:cubicBezTo>
              </a:path>
              <a:path w="1564" h="3449">
                <a:moveTo>
                  <a:pt x="21481" y="11832"/>
                </a:moveTo>
                <a:cubicBezTo>
                  <a:pt x="21481" y="11758"/>
                  <a:pt x="21481" y="11683"/>
                  <a:pt x="21481" y="11609"/>
                </a:cubicBezTo>
                <a:cubicBezTo>
                  <a:pt x="21467" y="11585"/>
                  <a:pt x="21459" y="11587"/>
                  <a:pt x="21456" y="11534"/>
                </a:cubicBezTo>
                <a:cubicBezTo>
                  <a:pt x="21455" y="11510"/>
                  <a:pt x="21456" y="11484"/>
                  <a:pt x="21456" y="11460"/>
                </a:cubicBezTo>
                <a:cubicBezTo>
                  <a:pt x="21438" y="11430"/>
                  <a:pt x="21431" y="11402"/>
                  <a:pt x="21431" y="11336"/>
                </a:cubicBezTo>
                <a:cubicBezTo>
                  <a:pt x="21417" y="11312"/>
                  <a:pt x="21409" y="11314"/>
                  <a:pt x="21406" y="11261"/>
                </a:cubicBezTo>
                <a:cubicBezTo>
                  <a:pt x="21403" y="11215"/>
                  <a:pt x="21388" y="11181"/>
                  <a:pt x="21382" y="11137"/>
                </a:cubicBezTo>
                <a:cubicBezTo>
                  <a:pt x="21377" y="11097"/>
                  <a:pt x="21382" y="11053"/>
                  <a:pt x="21382" y="11013"/>
                </a:cubicBezTo>
                <a:cubicBezTo>
                  <a:pt x="21374" y="10990"/>
                  <a:pt x="21374" y="10987"/>
                  <a:pt x="21382" y="10964"/>
                </a:cubicBezTo>
                <a:cubicBezTo>
                  <a:pt x="21382" y="10937"/>
                  <a:pt x="21382" y="10910"/>
                  <a:pt x="21382" y="10864"/>
                </a:cubicBezTo>
                <a:cubicBezTo>
                  <a:pt x="21382" y="10732"/>
                  <a:pt x="21382" y="10600"/>
                  <a:pt x="21382" y="10468"/>
                </a:cubicBezTo>
                <a:cubicBezTo>
                  <a:pt x="21387" y="10455"/>
                  <a:pt x="21406" y="10412"/>
                  <a:pt x="21406" y="10368"/>
                </a:cubicBezTo>
                <a:cubicBezTo>
                  <a:pt x="21406" y="10240"/>
                  <a:pt x="21395" y="10110"/>
                  <a:pt x="21382" y="9996"/>
                </a:cubicBezTo>
                <a:cubicBezTo>
                  <a:pt x="21377" y="9956"/>
                  <a:pt x="21382" y="9913"/>
                  <a:pt x="21382" y="9872"/>
                </a:cubicBezTo>
                <a:cubicBezTo>
                  <a:pt x="21364" y="9842"/>
                  <a:pt x="21357" y="9815"/>
                  <a:pt x="21357" y="9748"/>
                </a:cubicBezTo>
                <a:cubicBezTo>
                  <a:pt x="21357" y="9681"/>
                  <a:pt x="21332" y="9626"/>
                  <a:pt x="21332" y="9550"/>
                </a:cubicBezTo>
                <a:cubicBezTo>
                  <a:pt x="21332" y="9500"/>
                  <a:pt x="21332" y="9451"/>
                  <a:pt x="21332" y="9401"/>
                </a:cubicBezTo>
                <a:cubicBezTo>
                  <a:pt x="21310" y="9358"/>
                  <a:pt x="21308" y="9423"/>
                  <a:pt x="21332" y="9351"/>
                </a:cubicBezTo>
              </a:path>
              <a:path w="1564" h="3449">
                <a:moveTo>
                  <a:pt x="21158" y="11807"/>
                </a:moveTo>
                <a:cubicBezTo>
                  <a:pt x="21110" y="11740"/>
                  <a:pt x="21104" y="11642"/>
                  <a:pt x="21084" y="11559"/>
                </a:cubicBezTo>
                <a:cubicBezTo>
                  <a:pt x="21057" y="11446"/>
                  <a:pt x="21034" y="11353"/>
                  <a:pt x="21034" y="11237"/>
                </a:cubicBezTo>
                <a:cubicBezTo>
                  <a:pt x="21034" y="11212"/>
                  <a:pt x="21034" y="11204"/>
                  <a:pt x="21034" y="11187"/>
                </a:cubicBezTo>
                <a:cubicBezTo>
                  <a:pt x="21136" y="11172"/>
                  <a:pt x="21228" y="11162"/>
                  <a:pt x="21332" y="11162"/>
                </a:cubicBezTo>
                <a:cubicBezTo>
                  <a:pt x="21402" y="11162"/>
                  <a:pt x="21543" y="11129"/>
                  <a:pt x="21605" y="11137"/>
                </a:cubicBezTo>
                <a:cubicBezTo>
                  <a:pt x="21646" y="11142"/>
                  <a:pt x="21697" y="11137"/>
                  <a:pt x="21754" y="11137"/>
                </a:cubicBezTo>
                <a:cubicBezTo>
                  <a:pt x="21807" y="11137"/>
                  <a:pt x="21803" y="11170"/>
                  <a:pt x="21803" y="11212"/>
                </a:cubicBezTo>
                <a:cubicBezTo>
                  <a:pt x="21803" y="11274"/>
                  <a:pt x="21813" y="11311"/>
                  <a:pt x="21828" y="11361"/>
                </a:cubicBezTo>
                <a:cubicBezTo>
                  <a:pt x="21845" y="11416"/>
                  <a:pt x="21825" y="11451"/>
                  <a:pt x="21853" y="11509"/>
                </a:cubicBezTo>
                <a:cubicBezTo>
                  <a:pt x="21877" y="11560"/>
                  <a:pt x="21878" y="11580"/>
                  <a:pt x="21878" y="11633"/>
                </a:cubicBezTo>
                <a:cubicBezTo>
                  <a:pt x="21878" y="11677"/>
                  <a:pt x="21877" y="11673"/>
                  <a:pt x="21903" y="1170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18240" y="4464000"/>
            <a:ext cx="206640" cy="216000"/>
          </a:xfrm>
          <a:custGeom>
            <a:avLst/>
            <a:gdLst/>
            <a:ahLst/>
            <a:rect l="l" t="t" r="r" b="b"/>
            <a:pathLst>
              <a:path w="571" h="597">
                <a:moveTo>
                  <a:pt x="20935" y="12576"/>
                </a:moveTo>
                <a:cubicBezTo>
                  <a:pt x="20920" y="12725"/>
                  <a:pt x="20886" y="12973"/>
                  <a:pt x="20886" y="12973"/>
                </a:cubicBezTo>
              </a:path>
              <a:path w="571" h="597">
                <a:moveTo>
                  <a:pt x="21208" y="12477"/>
                </a:moveTo>
                <a:cubicBezTo>
                  <a:pt x="21279" y="12429"/>
                  <a:pt x="21301" y="12413"/>
                  <a:pt x="21357" y="12402"/>
                </a:cubicBezTo>
                <a:cubicBezTo>
                  <a:pt x="21488" y="12586"/>
                  <a:pt x="21463" y="12688"/>
                  <a:pt x="21258" y="12824"/>
                </a:cubicBezTo>
                <a:cubicBezTo>
                  <a:pt x="21233" y="12832"/>
                  <a:pt x="21208" y="12841"/>
                  <a:pt x="21183" y="12849"/>
                </a:cubicBezTo>
                <a:cubicBezTo>
                  <a:pt x="21202" y="12763"/>
                  <a:pt x="21267" y="12636"/>
                  <a:pt x="21382" y="12725"/>
                </a:cubicBezTo>
                <a:cubicBezTo>
                  <a:pt x="21429" y="12796"/>
                  <a:pt x="21445" y="12818"/>
                  <a:pt x="21456" y="128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705800" y="4160880"/>
            <a:ext cx="28440" cy="169920"/>
          </a:xfrm>
          <a:custGeom>
            <a:avLst/>
            <a:gdLst/>
            <a:ahLst/>
            <a:rect l="l" t="t" r="r" b="b"/>
            <a:pathLst>
              <a:path w="76" h="472">
                <a:moveTo>
                  <a:pt x="21456" y="11832"/>
                </a:moveTo>
                <a:cubicBezTo>
                  <a:pt x="21456" y="11807"/>
                  <a:pt x="21456" y="11782"/>
                  <a:pt x="21456" y="11757"/>
                </a:cubicBezTo>
                <a:cubicBezTo>
                  <a:pt x="21479" y="11836"/>
                  <a:pt x="21450" y="11918"/>
                  <a:pt x="21431" y="12005"/>
                </a:cubicBezTo>
                <a:cubicBezTo>
                  <a:pt x="21431" y="12013"/>
                  <a:pt x="21431" y="12022"/>
                  <a:pt x="21431" y="12030"/>
                </a:cubicBezTo>
                <a:cubicBezTo>
                  <a:pt x="21417" y="11959"/>
                  <a:pt x="21406" y="11910"/>
                  <a:pt x="21406" y="11832"/>
                </a:cubicBezTo>
                <a:cubicBezTo>
                  <a:pt x="21406" y="11760"/>
                  <a:pt x="21414" y="11717"/>
                  <a:pt x="21431" y="11683"/>
                </a:cubicBezTo>
                <a:cubicBezTo>
                  <a:pt x="21450" y="11644"/>
                  <a:pt x="21406" y="11516"/>
                  <a:pt x="21406" y="11559"/>
                </a:cubicBezTo>
                <a:cubicBezTo>
                  <a:pt x="21406" y="11567"/>
                  <a:pt x="21406" y="11576"/>
                  <a:pt x="21406" y="11584"/>
                </a:cubicBezTo>
                <a:cubicBezTo>
                  <a:pt x="21406" y="11679"/>
                  <a:pt x="21426" y="11762"/>
                  <a:pt x="21431" y="11857"/>
                </a:cubicBezTo>
                <a:cubicBezTo>
                  <a:pt x="21431" y="11865"/>
                  <a:pt x="21431" y="11873"/>
                  <a:pt x="21431" y="118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53080" y="2919240"/>
            <a:ext cx="374760" cy="455760"/>
          </a:xfrm>
          <a:custGeom>
            <a:avLst/>
            <a:gdLst/>
            <a:ahLst/>
            <a:rect l="l" t="t" r="r" b="b"/>
            <a:pathLst>
              <a:path w="1043" h="1266">
                <a:moveTo>
                  <a:pt x="15701" y="9376"/>
                </a:moveTo>
                <a:cubicBezTo>
                  <a:pt x="15709" y="9368"/>
                  <a:pt x="15718" y="9359"/>
                  <a:pt x="15726" y="9351"/>
                </a:cubicBezTo>
              </a:path>
              <a:path w="1043" h="1266">
                <a:moveTo>
                  <a:pt x="15850" y="9227"/>
                </a:moveTo>
                <a:cubicBezTo>
                  <a:pt x="15850" y="9203"/>
                  <a:pt x="15879" y="9184"/>
                  <a:pt x="15900" y="9153"/>
                </a:cubicBezTo>
              </a:path>
              <a:path w="1043" h="1266">
                <a:moveTo>
                  <a:pt x="16272" y="8706"/>
                </a:moveTo>
                <a:cubicBezTo>
                  <a:pt x="16297" y="8706"/>
                  <a:pt x="16305" y="8706"/>
                  <a:pt x="16297" y="8682"/>
                </a:cubicBezTo>
              </a:path>
              <a:path w="1043" h="1266">
                <a:moveTo>
                  <a:pt x="16421" y="8483"/>
                </a:moveTo>
                <a:cubicBezTo>
                  <a:pt x="16451" y="8444"/>
                  <a:pt x="16468" y="8406"/>
                  <a:pt x="16495" y="8359"/>
                </a:cubicBezTo>
              </a:path>
              <a:path w="1043" h="1266">
                <a:moveTo>
                  <a:pt x="16694" y="8186"/>
                </a:moveTo>
                <a:cubicBezTo>
                  <a:pt x="16703" y="8140"/>
                  <a:pt x="16706" y="8130"/>
                  <a:pt x="16743" y="81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33920" y="4813200"/>
            <a:ext cx="1241280" cy="1197000"/>
          </a:xfrm>
          <a:custGeom>
            <a:avLst/>
            <a:gdLst/>
            <a:ahLst/>
            <a:rect l="l" t="t" r="r" b="b"/>
            <a:pathLst>
              <a:path w="3448" h="3325">
                <a:moveTo>
                  <a:pt x="13022" y="13419"/>
                </a:moveTo>
                <a:cubicBezTo>
                  <a:pt x="13031" y="13472"/>
                  <a:pt x="13045" y="13524"/>
                  <a:pt x="13047" y="13593"/>
                </a:cubicBezTo>
                <a:cubicBezTo>
                  <a:pt x="13049" y="13675"/>
                  <a:pt x="13057" y="13737"/>
                  <a:pt x="13072" y="13816"/>
                </a:cubicBezTo>
                <a:cubicBezTo>
                  <a:pt x="13088" y="13901"/>
                  <a:pt x="13114" y="13978"/>
                  <a:pt x="13122" y="14064"/>
                </a:cubicBezTo>
                <a:cubicBezTo>
                  <a:pt x="13143" y="14295"/>
                  <a:pt x="13112" y="14537"/>
                  <a:pt x="13097" y="14759"/>
                </a:cubicBezTo>
                <a:cubicBezTo>
                  <a:pt x="13088" y="14894"/>
                  <a:pt x="13093" y="15023"/>
                  <a:pt x="13072" y="15156"/>
                </a:cubicBezTo>
                <a:cubicBezTo>
                  <a:pt x="13058" y="15247"/>
                  <a:pt x="13059" y="15337"/>
                  <a:pt x="13047" y="15429"/>
                </a:cubicBezTo>
                <a:cubicBezTo>
                  <a:pt x="13034" y="15536"/>
                  <a:pt x="13017" y="15646"/>
                  <a:pt x="12998" y="15751"/>
                </a:cubicBezTo>
                <a:cubicBezTo>
                  <a:pt x="12983" y="15834"/>
                  <a:pt x="12963" y="15916"/>
                  <a:pt x="12948" y="15999"/>
                </a:cubicBezTo>
                <a:cubicBezTo>
                  <a:pt x="12936" y="16066"/>
                  <a:pt x="12935" y="16131"/>
                  <a:pt x="12923" y="16197"/>
                </a:cubicBezTo>
                <a:cubicBezTo>
                  <a:pt x="12909" y="16270"/>
                  <a:pt x="12911" y="16348"/>
                  <a:pt x="12898" y="16421"/>
                </a:cubicBezTo>
                <a:cubicBezTo>
                  <a:pt x="12886" y="16489"/>
                  <a:pt x="12876" y="16547"/>
                  <a:pt x="12874" y="16619"/>
                </a:cubicBezTo>
                <a:cubicBezTo>
                  <a:pt x="12873" y="16644"/>
                  <a:pt x="12875" y="16669"/>
                  <a:pt x="12874" y="16694"/>
                </a:cubicBezTo>
                <a:cubicBezTo>
                  <a:pt x="13007" y="16694"/>
                  <a:pt x="13179" y="16687"/>
                  <a:pt x="13271" y="16669"/>
                </a:cubicBezTo>
                <a:cubicBezTo>
                  <a:pt x="13318" y="16660"/>
                  <a:pt x="13348" y="16656"/>
                  <a:pt x="13395" y="16644"/>
                </a:cubicBezTo>
                <a:cubicBezTo>
                  <a:pt x="13430" y="16635"/>
                  <a:pt x="13477" y="16629"/>
                  <a:pt x="13519" y="16619"/>
                </a:cubicBezTo>
                <a:cubicBezTo>
                  <a:pt x="13561" y="16609"/>
                  <a:pt x="13595" y="16603"/>
                  <a:pt x="13643" y="16594"/>
                </a:cubicBezTo>
                <a:cubicBezTo>
                  <a:pt x="13671" y="16589"/>
                  <a:pt x="13733" y="16578"/>
                  <a:pt x="13767" y="16570"/>
                </a:cubicBezTo>
                <a:cubicBezTo>
                  <a:pt x="13834" y="16555"/>
                  <a:pt x="13894" y="16549"/>
                  <a:pt x="13965" y="16545"/>
                </a:cubicBezTo>
                <a:cubicBezTo>
                  <a:pt x="14012" y="16542"/>
                  <a:pt x="14081" y="16522"/>
                  <a:pt x="14114" y="16520"/>
                </a:cubicBezTo>
                <a:cubicBezTo>
                  <a:pt x="14172" y="16516"/>
                  <a:pt x="14244" y="16499"/>
                  <a:pt x="14288" y="16495"/>
                </a:cubicBezTo>
                <a:cubicBezTo>
                  <a:pt x="14384" y="16487"/>
                  <a:pt x="14495" y="16476"/>
                  <a:pt x="14585" y="16470"/>
                </a:cubicBezTo>
                <a:cubicBezTo>
                  <a:pt x="14666" y="16465"/>
                  <a:pt x="14766" y="16450"/>
                  <a:pt x="14833" y="16446"/>
                </a:cubicBezTo>
                <a:cubicBezTo>
                  <a:pt x="14940" y="16439"/>
                  <a:pt x="15055" y="16428"/>
                  <a:pt x="15156" y="16421"/>
                </a:cubicBezTo>
                <a:cubicBezTo>
                  <a:pt x="15231" y="16416"/>
                  <a:pt x="15311" y="16401"/>
                  <a:pt x="15379" y="16396"/>
                </a:cubicBezTo>
                <a:cubicBezTo>
                  <a:pt x="15436" y="16392"/>
                  <a:pt x="15509" y="16375"/>
                  <a:pt x="15553" y="16371"/>
                </a:cubicBezTo>
                <a:cubicBezTo>
                  <a:pt x="15638" y="16364"/>
                  <a:pt x="15719" y="16351"/>
                  <a:pt x="15801" y="16346"/>
                </a:cubicBezTo>
                <a:cubicBezTo>
                  <a:pt x="15896" y="16340"/>
                  <a:pt x="16018" y="16326"/>
                  <a:pt x="16098" y="16321"/>
                </a:cubicBezTo>
                <a:cubicBezTo>
                  <a:pt x="16172" y="16316"/>
                  <a:pt x="16247" y="16324"/>
                  <a:pt x="16321" y="16321"/>
                </a:cubicBezTo>
              </a:path>
              <a:path w="3448" h="3325">
                <a:moveTo>
                  <a:pt x="13047" y="16073"/>
                </a:moveTo>
                <a:cubicBezTo>
                  <a:pt x="12989" y="16073"/>
                  <a:pt x="13114" y="16096"/>
                  <a:pt x="13146" y="16098"/>
                </a:cubicBezTo>
                <a:cubicBezTo>
                  <a:pt x="13222" y="16102"/>
                  <a:pt x="13252" y="16080"/>
                  <a:pt x="13320" y="16073"/>
                </a:cubicBezTo>
                <a:cubicBezTo>
                  <a:pt x="13364" y="16069"/>
                  <a:pt x="13357" y="16076"/>
                  <a:pt x="13395" y="16049"/>
                </a:cubicBezTo>
                <a:cubicBezTo>
                  <a:pt x="13395" y="16153"/>
                  <a:pt x="13406" y="16256"/>
                  <a:pt x="13419" y="16346"/>
                </a:cubicBezTo>
                <a:cubicBezTo>
                  <a:pt x="13427" y="16402"/>
                  <a:pt x="13391" y="16577"/>
                  <a:pt x="13444" y="16594"/>
                </a:cubicBezTo>
              </a:path>
              <a:path w="3448" h="3325">
                <a:moveTo>
                  <a:pt x="12923" y="16694"/>
                </a:moveTo>
                <a:cubicBezTo>
                  <a:pt x="12937" y="16622"/>
                  <a:pt x="12968" y="16613"/>
                  <a:pt x="13022" y="16570"/>
                </a:cubicBezTo>
              </a:path>
              <a:path w="3448" h="3325">
                <a:moveTo>
                  <a:pt x="13146" y="16495"/>
                </a:moveTo>
                <a:cubicBezTo>
                  <a:pt x="13179" y="16462"/>
                  <a:pt x="13196" y="16445"/>
                  <a:pt x="13221" y="16421"/>
                </a:cubicBezTo>
              </a:path>
              <a:path w="3448" h="3325">
                <a:moveTo>
                  <a:pt x="13320" y="16272"/>
                </a:moveTo>
                <a:cubicBezTo>
                  <a:pt x="13320" y="16239"/>
                  <a:pt x="13320" y="16222"/>
                  <a:pt x="13320" y="16197"/>
                </a:cubicBezTo>
                <a:cubicBezTo>
                  <a:pt x="13334" y="16193"/>
                  <a:pt x="13407" y="16161"/>
                  <a:pt x="13419" y="16148"/>
                </a:cubicBezTo>
                <a:cubicBezTo>
                  <a:pt x="13436" y="16123"/>
                  <a:pt x="13452" y="16098"/>
                  <a:pt x="13469" y="16073"/>
                </a:cubicBezTo>
              </a:path>
              <a:path w="3448" h="3325">
                <a:moveTo>
                  <a:pt x="13568" y="16073"/>
                </a:moveTo>
                <a:cubicBezTo>
                  <a:pt x="13580" y="16028"/>
                  <a:pt x="13612" y="15988"/>
                  <a:pt x="13643" y="15949"/>
                </a:cubicBezTo>
              </a:path>
              <a:path w="3448" h="3325">
                <a:moveTo>
                  <a:pt x="13767" y="15801"/>
                </a:moveTo>
                <a:cubicBezTo>
                  <a:pt x="13790" y="15795"/>
                  <a:pt x="13878" y="15747"/>
                  <a:pt x="13891" y="15726"/>
                </a:cubicBezTo>
                <a:cubicBezTo>
                  <a:pt x="13899" y="15701"/>
                  <a:pt x="13907" y="15677"/>
                  <a:pt x="13915" y="15652"/>
                </a:cubicBezTo>
              </a:path>
              <a:path w="3448" h="3325">
                <a:moveTo>
                  <a:pt x="14188" y="15404"/>
                </a:moveTo>
                <a:cubicBezTo>
                  <a:pt x="14200" y="15368"/>
                  <a:pt x="14258" y="15350"/>
                  <a:pt x="14288" y="15304"/>
                </a:cubicBezTo>
                <a:cubicBezTo>
                  <a:pt x="14320" y="15240"/>
                  <a:pt x="14340" y="15211"/>
                  <a:pt x="14387" y="15180"/>
                </a:cubicBezTo>
              </a:path>
              <a:path w="3448" h="3325">
                <a:moveTo>
                  <a:pt x="14486" y="15081"/>
                </a:moveTo>
                <a:cubicBezTo>
                  <a:pt x="14524" y="15034"/>
                  <a:pt x="14555" y="14985"/>
                  <a:pt x="14585" y="14932"/>
                </a:cubicBezTo>
              </a:path>
              <a:path w="3448" h="3325">
                <a:moveTo>
                  <a:pt x="14858" y="14635"/>
                </a:moveTo>
                <a:cubicBezTo>
                  <a:pt x="14895" y="14616"/>
                  <a:pt x="14920" y="14572"/>
                  <a:pt x="14957" y="14536"/>
                </a:cubicBezTo>
              </a:path>
              <a:path w="3448" h="3325">
                <a:moveTo>
                  <a:pt x="15255" y="14163"/>
                </a:moveTo>
                <a:cubicBezTo>
                  <a:pt x="15318" y="14109"/>
                  <a:pt x="15313" y="14126"/>
                  <a:pt x="15354" y="14064"/>
                </a:cubicBezTo>
              </a:path>
              <a:path w="3448" h="3325">
                <a:moveTo>
                  <a:pt x="15553" y="13891"/>
                </a:moveTo>
                <a:cubicBezTo>
                  <a:pt x="15585" y="13862"/>
                  <a:pt x="15653" y="13783"/>
                  <a:pt x="15677" y="13767"/>
                </a:cubicBezTo>
                <a:cubicBezTo>
                  <a:pt x="15685" y="13767"/>
                  <a:pt x="15693" y="13767"/>
                  <a:pt x="15701" y="13767"/>
                </a:cubicBezTo>
              </a:path>
              <a:path w="3448" h="3325">
                <a:moveTo>
                  <a:pt x="15875" y="13568"/>
                </a:moveTo>
                <a:cubicBezTo>
                  <a:pt x="15931" y="13512"/>
                  <a:pt x="15983" y="13437"/>
                  <a:pt x="16049" y="13395"/>
                </a:cubicBezTo>
                <a:cubicBezTo>
                  <a:pt x="16073" y="13395"/>
                  <a:pt x="16081" y="13395"/>
                  <a:pt x="16073" y="13370"/>
                </a:cubicBezTo>
              </a:path>
              <a:path w="3448" h="3325">
                <a:moveTo>
                  <a:pt x="13295" y="15354"/>
                </a:moveTo>
                <a:cubicBezTo>
                  <a:pt x="13295" y="15346"/>
                  <a:pt x="13295" y="15337"/>
                  <a:pt x="13295" y="15329"/>
                </a:cubicBezTo>
                <a:cubicBezTo>
                  <a:pt x="13336" y="15398"/>
                  <a:pt x="13307" y="15444"/>
                  <a:pt x="13295" y="15528"/>
                </a:cubicBezTo>
                <a:cubicBezTo>
                  <a:pt x="13379" y="15514"/>
                  <a:pt x="13428" y="15483"/>
                  <a:pt x="13494" y="15429"/>
                </a:cubicBezTo>
              </a:path>
              <a:path w="3448" h="3325">
                <a:moveTo>
                  <a:pt x="13419" y="15081"/>
                </a:moveTo>
                <a:cubicBezTo>
                  <a:pt x="13447" y="15262"/>
                  <a:pt x="13498" y="15442"/>
                  <a:pt x="13519" y="15627"/>
                </a:cubicBezTo>
                <a:cubicBezTo>
                  <a:pt x="13519" y="15644"/>
                  <a:pt x="13519" y="15660"/>
                  <a:pt x="13519" y="15677"/>
                </a:cubicBezTo>
              </a:path>
              <a:path w="3448" h="3325">
                <a:moveTo>
                  <a:pt x="13568" y="14982"/>
                </a:moveTo>
                <a:cubicBezTo>
                  <a:pt x="13568" y="15048"/>
                  <a:pt x="13568" y="15065"/>
                  <a:pt x="13568" y="15106"/>
                </a:cubicBezTo>
                <a:cubicBezTo>
                  <a:pt x="13689" y="15115"/>
                  <a:pt x="13789" y="15113"/>
                  <a:pt x="13816" y="15255"/>
                </a:cubicBezTo>
                <a:cubicBezTo>
                  <a:pt x="13823" y="15292"/>
                  <a:pt x="13746" y="15475"/>
                  <a:pt x="13717" y="15429"/>
                </a:cubicBezTo>
                <a:cubicBezTo>
                  <a:pt x="13709" y="15404"/>
                  <a:pt x="13700" y="15379"/>
                  <a:pt x="13692" y="15354"/>
                </a:cubicBezTo>
              </a:path>
              <a:path w="3448" h="3325">
                <a:moveTo>
                  <a:pt x="13543" y="15007"/>
                </a:moveTo>
                <a:cubicBezTo>
                  <a:pt x="13605" y="14932"/>
                  <a:pt x="13708" y="14868"/>
                  <a:pt x="13742" y="14784"/>
                </a:cubicBezTo>
              </a:path>
              <a:path w="3448" h="3325">
                <a:moveTo>
                  <a:pt x="13940" y="14486"/>
                </a:moveTo>
                <a:cubicBezTo>
                  <a:pt x="13908" y="14566"/>
                  <a:pt x="13899" y="14604"/>
                  <a:pt x="13915" y="14684"/>
                </a:cubicBezTo>
                <a:cubicBezTo>
                  <a:pt x="14036" y="14658"/>
                  <a:pt x="14074" y="14613"/>
                  <a:pt x="14015" y="14486"/>
                </a:cubicBezTo>
                <a:cubicBezTo>
                  <a:pt x="13990" y="14461"/>
                  <a:pt x="13982" y="14453"/>
                  <a:pt x="13965" y="14486"/>
                </a:cubicBezTo>
              </a:path>
              <a:path w="3448" h="3325">
                <a:moveTo>
                  <a:pt x="13891" y="16024"/>
                </a:moveTo>
                <a:cubicBezTo>
                  <a:pt x="13949" y="16044"/>
                  <a:pt x="13915" y="16154"/>
                  <a:pt x="13915" y="16222"/>
                </a:cubicBezTo>
                <a:cubicBezTo>
                  <a:pt x="13915" y="16239"/>
                  <a:pt x="13915" y="16255"/>
                  <a:pt x="13915" y="16272"/>
                </a:cubicBezTo>
                <a:cubicBezTo>
                  <a:pt x="13998" y="16253"/>
                  <a:pt x="14059" y="16199"/>
                  <a:pt x="14139" y="16173"/>
                </a:cubicBezTo>
              </a:path>
              <a:path w="3448" h="3325">
                <a:moveTo>
                  <a:pt x="14114" y="15974"/>
                </a:moveTo>
                <a:cubicBezTo>
                  <a:pt x="14140" y="16079"/>
                  <a:pt x="14167" y="16205"/>
                  <a:pt x="14188" y="16321"/>
                </a:cubicBezTo>
                <a:cubicBezTo>
                  <a:pt x="14200" y="16387"/>
                  <a:pt x="14213" y="16537"/>
                  <a:pt x="14213" y="16470"/>
                </a:cubicBezTo>
              </a:path>
              <a:path w="3448" h="3325">
                <a:moveTo>
                  <a:pt x="14387" y="15949"/>
                </a:moveTo>
                <a:cubicBezTo>
                  <a:pt x="14387" y="16015"/>
                  <a:pt x="14387" y="16032"/>
                  <a:pt x="14387" y="16073"/>
                </a:cubicBezTo>
                <a:cubicBezTo>
                  <a:pt x="14436" y="16073"/>
                  <a:pt x="14538" y="16028"/>
                  <a:pt x="14560" y="16073"/>
                </a:cubicBezTo>
                <a:cubicBezTo>
                  <a:pt x="14609" y="16173"/>
                  <a:pt x="14587" y="16320"/>
                  <a:pt x="14461" y="16346"/>
                </a:cubicBezTo>
                <a:cubicBezTo>
                  <a:pt x="14413" y="16298"/>
                  <a:pt x="14393" y="16259"/>
                  <a:pt x="14387" y="16197"/>
                </a:cubicBezTo>
              </a:path>
              <a:path w="3448" h="3325">
                <a:moveTo>
                  <a:pt x="14362" y="15925"/>
                </a:moveTo>
                <a:cubicBezTo>
                  <a:pt x="14417" y="15851"/>
                  <a:pt x="14488" y="15812"/>
                  <a:pt x="14560" y="15751"/>
                </a:cubicBezTo>
              </a:path>
              <a:path w="3448" h="3325">
                <a:moveTo>
                  <a:pt x="14808" y="15453"/>
                </a:moveTo>
                <a:cubicBezTo>
                  <a:pt x="14755" y="15529"/>
                  <a:pt x="14751" y="15549"/>
                  <a:pt x="14759" y="15627"/>
                </a:cubicBezTo>
                <a:cubicBezTo>
                  <a:pt x="14769" y="15624"/>
                  <a:pt x="14957" y="15501"/>
                  <a:pt x="14883" y="15478"/>
                </a:cubicBezTo>
                <a:cubicBezTo>
                  <a:pt x="14850" y="15478"/>
                  <a:pt x="14817" y="15478"/>
                  <a:pt x="14784" y="1547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32680" y="2455920"/>
            <a:ext cx="2500200" cy="54000"/>
          </a:xfrm>
          <a:custGeom>
            <a:avLst/>
            <a:gdLst/>
            <a:ahLst/>
            <a:rect l="l" t="t" r="r" b="b"/>
            <a:pathLst>
              <a:path w="6946" h="150">
                <a:moveTo>
                  <a:pt x="17314" y="6821"/>
                </a:moveTo>
                <a:cubicBezTo>
                  <a:pt x="17346" y="6829"/>
                  <a:pt x="17356" y="6839"/>
                  <a:pt x="17388" y="6846"/>
                </a:cubicBezTo>
                <a:cubicBezTo>
                  <a:pt x="17448" y="6858"/>
                  <a:pt x="17501" y="6866"/>
                  <a:pt x="17562" y="6871"/>
                </a:cubicBezTo>
                <a:cubicBezTo>
                  <a:pt x="17688" y="6882"/>
                  <a:pt x="17793" y="6904"/>
                  <a:pt x="17909" y="6921"/>
                </a:cubicBezTo>
                <a:cubicBezTo>
                  <a:pt x="17998" y="6934"/>
                  <a:pt x="18092" y="6940"/>
                  <a:pt x="18182" y="6945"/>
                </a:cubicBezTo>
                <a:cubicBezTo>
                  <a:pt x="18248" y="6949"/>
                  <a:pt x="18320" y="6966"/>
                  <a:pt x="18380" y="6970"/>
                </a:cubicBezTo>
                <a:cubicBezTo>
                  <a:pt x="18478" y="6976"/>
                  <a:pt x="18557" y="6942"/>
                  <a:pt x="18653" y="6945"/>
                </a:cubicBezTo>
                <a:cubicBezTo>
                  <a:pt x="18729" y="6948"/>
                  <a:pt x="18799" y="6948"/>
                  <a:pt x="18876" y="6945"/>
                </a:cubicBezTo>
                <a:cubicBezTo>
                  <a:pt x="19605" y="6920"/>
                  <a:pt x="20334" y="6941"/>
                  <a:pt x="21059" y="6896"/>
                </a:cubicBezTo>
                <a:cubicBezTo>
                  <a:pt x="21330" y="6879"/>
                  <a:pt x="21608" y="6884"/>
                  <a:pt x="21878" y="6871"/>
                </a:cubicBezTo>
                <a:cubicBezTo>
                  <a:pt x="22257" y="6853"/>
                  <a:pt x="22644" y="6867"/>
                  <a:pt x="23019" y="6846"/>
                </a:cubicBezTo>
                <a:cubicBezTo>
                  <a:pt x="23421" y="6824"/>
                  <a:pt x="23849" y="6879"/>
                  <a:pt x="24234" y="6821"/>
                </a:cubicBezTo>
                <a:cubicBezTo>
                  <a:pt x="24259" y="6821"/>
                  <a:pt x="24267" y="6821"/>
                  <a:pt x="24234" y="682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40240" y="2741760"/>
            <a:ext cx="1197000" cy="679320"/>
          </a:xfrm>
          <a:custGeom>
            <a:avLst/>
            <a:gdLst/>
            <a:ahLst/>
            <a:rect l="l" t="t" r="r" b="b"/>
            <a:pathLst>
              <a:path w="3325" h="1886">
                <a:moveTo>
                  <a:pt x="14833" y="7615"/>
                </a:moveTo>
                <a:cubicBezTo>
                  <a:pt x="14867" y="7645"/>
                  <a:pt x="14875" y="7607"/>
                  <a:pt x="14908" y="7665"/>
                </a:cubicBezTo>
                <a:cubicBezTo>
                  <a:pt x="14928" y="7700"/>
                  <a:pt x="14937" y="7747"/>
                  <a:pt x="14957" y="7789"/>
                </a:cubicBezTo>
                <a:cubicBezTo>
                  <a:pt x="14973" y="7824"/>
                  <a:pt x="14989" y="7879"/>
                  <a:pt x="15007" y="7913"/>
                </a:cubicBezTo>
                <a:cubicBezTo>
                  <a:pt x="15029" y="7954"/>
                  <a:pt x="15064" y="7996"/>
                  <a:pt x="15081" y="8037"/>
                </a:cubicBezTo>
                <a:cubicBezTo>
                  <a:pt x="15094" y="8068"/>
                  <a:pt x="15092" y="8105"/>
                  <a:pt x="15106" y="8136"/>
                </a:cubicBezTo>
                <a:cubicBezTo>
                  <a:pt x="15123" y="8175"/>
                  <a:pt x="15161" y="8218"/>
                  <a:pt x="15180" y="8260"/>
                </a:cubicBezTo>
                <a:cubicBezTo>
                  <a:pt x="15197" y="8298"/>
                  <a:pt x="15214" y="8348"/>
                  <a:pt x="15230" y="8384"/>
                </a:cubicBezTo>
                <a:cubicBezTo>
                  <a:pt x="15282" y="8502"/>
                  <a:pt x="15300" y="8641"/>
                  <a:pt x="15354" y="8756"/>
                </a:cubicBezTo>
                <a:cubicBezTo>
                  <a:pt x="15398" y="8849"/>
                  <a:pt x="15445" y="8937"/>
                  <a:pt x="15478" y="9029"/>
                </a:cubicBezTo>
                <a:cubicBezTo>
                  <a:pt x="15495" y="9075"/>
                  <a:pt x="15513" y="9126"/>
                  <a:pt x="15528" y="9178"/>
                </a:cubicBezTo>
                <a:cubicBezTo>
                  <a:pt x="15545" y="9240"/>
                  <a:pt x="15581" y="9294"/>
                  <a:pt x="15602" y="9351"/>
                </a:cubicBezTo>
                <a:cubicBezTo>
                  <a:pt x="15618" y="9396"/>
                  <a:pt x="15584" y="9413"/>
                  <a:pt x="15627" y="9451"/>
                </a:cubicBezTo>
                <a:cubicBezTo>
                  <a:pt x="15649" y="9471"/>
                  <a:pt x="15694" y="9470"/>
                  <a:pt x="15726" y="9475"/>
                </a:cubicBezTo>
                <a:cubicBezTo>
                  <a:pt x="15802" y="9487"/>
                  <a:pt x="15865" y="9456"/>
                  <a:pt x="15925" y="9451"/>
                </a:cubicBezTo>
                <a:cubicBezTo>
                  <a:pt x="16036" y="9441"/>
                  <a:pt x="16143" y="9466"/>
                  <a:pt x="16247" y="9475"/>
                </a:cubicBezTo>
                <a:cubicBezTo>
                  <a:pt x="16312" y="9481"/>
                  <a:pt x="16387" y="9496"/>
                  <a:pt x="16446" y="9500"/>
                </a:cubicBezTo>
                <a:cubicBezTo>
                  <a:pt x="16779" y="9525"/>
                  <a:pt x="17138" y="9504"/>
                  <a:pt x="17462" y="9475"/>
                </a:cubicBezTo>
                <a:cubicBezTo>
                  <a:pt x="17690" y="9455"/>
                  <a:pt x="17928" y="9475"/>
                  <a:pt x="18157" y="94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76920" y="3205080"/>
            <a:ext cx="19080" cy="36720"/>
          </a:xfrm>
          <a:custGeom>
            <a:avLst/>
            <a:gdLst/>
            <a:ahLst/>
            <a:rect l="l" t="t" r="r" b="b"/>
            <a:pathLst>
              <a:path w="50" h="100">
                <a:moveTo>
                  <a:pt x="16073" y="9004"/>
                </a:moveTo>
                <a:cubicBezTo>
                  <a:pt x="16038" y="8967"/>
                  <a:pt x="16072" y="8950"/>
                  <a:pt x="16098" y="890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9120" y="2776680"/>
            <a:ext cx="44640" cy="72720"/>
          </a:xfrm>
          <a:custGeom>
            <a:avLst/>
            <a:gdLst/>
            <a:ahLst/>
            <a:rect l="l" t="t" r="r" b="b"/>
            <a:pathLst>
              <a:path w="125" h="200">
                <a:moveTo>
                  <a:pt x="16966" y="7913"/>
                </a:moveTo>
                <a:cubicBezTo>
                  <a:pt x="16944" y="7868"/>
                  <a:pt x="16954" y="7888"/>
                  <a:pt x="16966" y="7838"/>
                </a:cubicBezTo>
                <a:cubicBezTo>
                  <a:pt x="16977" y="7838"/>
                  <a:pt x="17051" y="7732"/>
                  <a:pt x="17066" y="771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88040" y="2678040"/>
            <a:ext cx="19080" cy="36720"/>
          </a:xfrm>
          <a:custGeom>
            <a:avLst/>
            <a:gdLst/>
            <a:ahLst/>
            <a:rect l="l" t="t" r="r" b="b"/>
            <a:pathLst>
              <a:path w="50" h="101">
                <a:moveTo>
                  <a:pt x="17214" y="7541"/>
                </a:moveTo>
                <a:cubicBezTo>
                  <a:pt x="17206" y="7541"/>
                  <a:pt x="17198" y="7541"/>
                  <a:pt x="17190" y="7541"/>
                </a:cubicBezTo>
                <a:cubicBezTo>
                  <a:pt x="17200" y="7497"/>
                  <a:pt x="17213" y="7459"/>
                  <a:pt x="17239" y="74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72080" y="2894040"/>
            <a:ext cx="108000" cy="169920"/>
          </a:xfrm>
          <a:custGeom>
            <a:avLst/>
            <a:gdLst/>
            <a:ahLst/>
            <a:rect l="l" t="t" r="r" b="b"/>
            <a:pathLst>
              <a:path w="299" h="472">
                <a:moveTo>
                  <a:pt x="15751" y="8037"/>
                </a:moveTo>
                <a:cubicBezTo>
                  <a:pt x="15703" y="8065"/>
                  <a:pt x="15563" y="8076"/>
                  <a:pt x="15528" y="8111"/>
                </a:cubicBezTo>
                <a:cubicBezTo>
                  <a:pt x="15510" y="8129"/>
                  <a:pt x="15508" y="8203"/>
                  <a:pt x="15503" y="8235"/>
                </a:cubicBezTo>
                <a:cubicBezTo>
                  <a:pt x="15575" y="8289"/>
                  <a:pt x="15637" y="8213"/>
                  <a:pt x="15726" y="8260"/>
                </a:cubicBezTo>
                <a:cubicBezTo>
                  <a:pt x="15893" y="8348"/>
                  <a:pt x="15660" y="8491"/>
                  <a:pt x="15577" y="8508"/>
                </a:cubicBezTo>
                <a:cubicBezTo>
                  <a:pt x="15516" y="8508"/>
                  <a:pt x="15500" y="8517"/>
                  <a:pt x="15478" y="848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24360" y="2884320"/>
            <a:ext cx="88920" cy="54000"/>
          </a:xfrm>
          <a:custGeom>
            <a:avLst/>
            <a:gdLst/>
            <a:ahLst/>
            <a:rect l="l" t="t" r="r" b="b"/>
            <a:pathLst>
              <a:path w="249" h="150">
                <a:moveTo>
                  <a:pt x="15900" y="8012"/>
                </a:moveTo>
                <a:cubicBezTo>
                  <a:pt x="15940" y="8039"/>
                  <a:pt x="15925" y="8097"/>
                  <a:pt x="15925" y="8161"/>
                </a:cubicBezTo>
                <a:cubicBezTo>
                  <a:pt x="16031" y="8161"/>
                  <a:pt x="16066" y="8150"/>
                  <a:pt x="16148" y="80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86280" y="2820960"/>
            <a:ext cx="9720" cy="196920"/>
          </a:xfrm>
          <a:custGeom>
            <a:avLst/>
            <a:gdLst/>
            <a:ahLst/>
            <a:rect l="l" t="t" r="r" b="b"/>
            <a:pathLst>
              <a:path w="26" h="547">
                <a:moveTo>
                  <a:pt x="16098" y="7838"/>
                </a:moveTo>
                <a:cubicBezTo>
                  <a:pt x="16098" y="8005"/>
                  <a:pt x="16078" y="8167"/>
                  <a:pt x="16073" y="8334"/>
                </a:cubicBezTo>
                <a:cubicBezTo>
                  <a:pt x="16073" y="8376"/>
                  <a:pt x="16073" y="8401"/>
                  <a:pt x="16073" y="835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30920" y="2751120"/>
            <a:ext cx="54000" cy="71280"/>
          </a:xfrm>
          <a:custGeom>
            <a:avLst/>
            <a:gdLst/>
            <a:ahLst/>
            <a:rect l="l" t="t" r="r" b="b"/>
            <a:pathLst>
              <a:path w="150" h="199">
                <a:moveTo>
                  <a:pt x="16272" y="7640"/>
                </a:moveTo>
                <a:cubicBezTo>
                  <a:pt x="16228" y="7728"/>
                  <a:pt x="16211" y="7749"/>
                  <a:pt x="16222" y="7813"/>
                </a:cubicBezTo>
                <a:cubicBezTo>
                  <a:pt x="16272" y="7822"/>
                  <a:pt x="16435" y="7712"/>
                  <a:pt x="16321" y="7665"/>
                </a:cubicBezTo>
                <a:cubicBezTo>
                  <a:pt x="16253" y="7665"/>
                  <a:pt x="16234" y="7662"/>
                  <a:pt x="16197" y="76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18120" y="3106800"/>
            <a:ext cx="117720" cy="179280"/>
          </a:xfrm>
          <a:custGeom>
            <a:avLst/>
            <a:gdLst/>
            <a:ahLst/>
            <a:rect l="l" t="t" r="r" b="b"/>
            <a:pathLst>
              <a:path w="324" h="497">
                <a:moveTo>
                  <a:pt x="16917" y="8632"/>
                </a:moveTo>
                <a:cubicBezTo>
                  <a:pt x="16859" y="8655"/>
                  <a:pt x="16725" y="8666"/>
                  <a:pt x="16718" y="8731"/>
                </a:cubicBezTo>
                <a:cubicBezTo>
                  <a:pt x="16718" y="8806"/>
                  <a:pt x="16718" y="8830"/>
                  <a:pt x="16718" y="8880"/>
                </a:cubicBezTo>
                <a:cubicBezTo>
                  <a:pt x="16810" y="8845"/>
                  <a:pt x="16897" y="8810"/>
                  <a:pt x="16991" y="8781"/>
                </a:cubicBezTo>
                <a:cubicBezTo>
                  <a:pt x="17073" y="8916"/>
                  <a:pt x="17039" y="9011"/>
                  <a:pt x="16892" y="9103"/>
                </a:cubicBezTo>
                <a:cubicBezTo>
                  <a:pt x="16774" y="9176"/>
                  <a:pt x="16764" y="9081"/>
                  <a:pt x="16743" y="900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97760" y="3116160"/>
            <a:ext cx="88920" cy="81000"/>
          </a:xfrm>
          <a:custGeom>
            <a:avLst/>
            <a:gdLst/>
            <a:ahLst/>
            <a:rect l="l" t="t" r="r" b="b"/>
            <a:pathLst>
              <a:path w="249" h="224">
                <a:moveTo>
                  <a:pt x="17214" y="8657"/>
                </a:moveTo>
                <a:cubicBezTo>
                  <a:pt x="17214" y="8682"/>
                  <a:pt x="17177" y="8900"/>
                  <a:pt x="17264" y="8880"/>
                </a:cubicBezTo>
                <a:cubicBezTo>
                  <a:pt x="17363" y="8830"/>
                  <a:pt x="17396" y="8813"/>
                  <a:pt x="17462" y="87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32680" y="3081240"/>
            <a:ext cx="27000" cy="196920"/>
          </a:xfrm>
          <a:custGeom>
            <a:avLst/>
            <a:gdLst/>
            <a:ahLst/>
            <a:rect l="l" t="t" r="r" b="b"/>
            <a:pathLst>
              <a:path w="75" h="546">
                <a:moveTo>
                  <a:pt x="17314" y="8558"/>
                </a:moveTo>
                <a:cubicBezTo>
                  <a:pt x="17314" y="8685"/>
                  <a:pt x="17370" y="8783"/>
                  <a:pt x="17388" y="8905"/>
                </a:cubicBezTo>
                <a:cubicBezTo>
                  <a:pt x="17399" y="8978"/>
                  <a:pt x="17388" y="9153"/>
                  <a:pt x="17388" y="907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03960" y="3000240"/>
            <a:ext cx="54000" cy="36720"/>
          </a:xfrm>
          <a:custGeom>
            <a:avLst/>
            <a:gdLst/>
            <a:ahLst/>
            <a:rect l="l" t="t" r="r" b="b"/>
            <a:pathLst>
              <a:path w="150" h="101">
                <a:moveTo>
                  <a:pt x="17562" y="8384"/>
                </a:moveTo>
                <a:cubicBezTo>
                  <a:pt x="17534" y="8384"/>
                  <a:pt x="17523" y="8386"/>
                  <a:pt x="17512" y="8409"/>
                </a:cubicBezTo>
                <a:cubicBezTo>
                  <a:pt x="17599" y="8428"/>
                  <a:pt x="17641" y="8436"/>
                  <a:pt x="17661" y="8334"/>
                </a:cubicBezTo>
                <a:cubicBezTo>
                  <a:pt x="17593" y="8334"/>
                  <a:pt x="17574" y="8331"/>
                  <a:pt x="17537" y="835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4880" y="4197240"/>
            <a:ext cx="2286000" cy="54000"/>
          </a:xfrm>
          <a:custGeom>
            <a:avLst/>
            <a:gdLst/>
            <a:ahLst/>
            <a:rect l="l" t="t" r="r" b="b"/>
            <a:pathLst>
              <a:path w="6351" h="150">
                <a:moveTo>
                  <a:pt x="18207" y="11708"/>
                </a:moveTo>
                <a:cubicBezTo>
                  <a:pt x="18358" y="11708"/>
                  <a:pt x="18506" y="11708"/>
                  <a:pt x="18653" y="11683"/>
                </a:cubicBezTo>
                <a:cubicBezTo>
                  <a:pt x="18734" y="11669"/>
                  <a:pt x="18816" y="11651"/>
                  <a:pt x="18901" y="11658"/>
                </a:cubicBezTo>
                <a:cubicBezTo>
                  <a:pt x="18987" y="11665"/>
                  <a:pt x="19062" y="11681"/>
                  <a:pt x="19149" y="11683"/>
                </a:cubicBezTo>
                <a:cubicBezTo>
                  <a:pt x="19260" y="11685"/>
                  <a:pt x="19363" y="11694"/>
                  <a:pt x="19472" y="11708"/>
                </a:cubicBezTo>
                <a:cubicBezTo>
                  <a:pt x="19570" y="11720"/>
                  <a:pt x="19671" y="11748"/>
                  <a:pt x="19769" y="11757"/>
                </a:cubicBezTo>
                <a:cubicBezTo>
                  <a:pt x="19885" y="11767"/>
                  <a:pt x="20002" y="11776"/>
                  <a:pt x="20117" y="11782"/>
                </a:cubicBezTo>
                <a:cubicBezTo>
                  <a:pt x="20228" y="11787"/>
                  <a:pt x="20330" y="11799"/>
                  <a:pt x="20439" y="11807"/>
                </a:cubicBezTo>
                <a:cubicBezTo>
                  <a:pt x="20696" y="11826"/>
                  <a:pt x="20957" y="11800"/>
                  <a:pt x="21208" y="11782"/>
                </a:cubicBezTo>
                <a:cubicBezTo>
                  <a:pt x="21310" y="11775"/>
                  <a:pt x="21405" y="11760"/>
                  <a:pt x="21506" y="11757"/>
                </a:cubicBezTo>
                <a:cubicBezTo>
                  <a:pt x="22241" y="11737"/>
                  <a:pt x="22984" y="11783"/>
                  <a:pt x="23713" y="11733"/>
                </a:cubicBezTo>
                <a:cubicBezTo>
                  <a:pt x="23876" y="11722"/>
                  <a:pt x="24163" y="11701"/>
                  <a:pt x="24284" y="11708"/>
                </a:cubicBezTo>
                <a:cubicBezTo>
                  <a:pt x="24324" y="11710"/>
                  <a:pt x="24348" y="11736"/>
                  <a:pt x="24383" y="11733"/>
                </a:cubicBezTo>
                <a:cubicBezTo>
                  <a:pt x="24444" y="11728"/>
                  <a:pt x="24495" y="11715"/>
                  <a:pt x="24557" y="1170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Unit 6: Geometry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aw geometric figures using a variety of too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2044800" y="45626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680" y="12675"/>
                </a:moveTo>
                <a:lnTo>
                  <a:pt x="5680" y="12675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67040" y="3813120"/>
            <a:ext cx="2741760" cy="54000"/>
          </a:xfrm>
          <a:custGeom>
            <a:avLst/>
            <a:gdLst/>
            <a:ahLst/>
            <a:rect l="l" t="t" r="r" b="b"/>
            <a:pathLst>
              <a:path w="7616" h="149">
                <a:moveTo>
                  <a:pt x="7962" y="10592"/>
                </a:moveTo>
                <a:cubicBezTo>
                  <a:pt x="8100" y="10619"/>
                  <a:pt x="8220" y="10624"/>
                  <a:pt x="8359" y="10641"/>
                </a:cubicBezTo>
                <a:cubicBezTo>
                  <a:pt x="8517" y="10661"/>
                  <a:pt x="8672" y="10696"/>
                  <a:pt x="8830" y="10716"/>
                </a:cubicBezTo>
                <a:cubicBezTo>
                  <a:pt x="8978" y="10735"/>
                  <a:pt x="9127" y="10737"/>
                  <a:pt x="9277" y="10740"/>
                </a:cubicBezTo>
                <a:cubicBezTo>
                  <a:pt x="9519" y="10745"/>
                  <a:pt x="9757" y="10731"/>
                  <a:pt x="9996" y="10716"/>
                </a:cubicBezTo>
                <a:cubicBezTo>
                  <a:pt x="10202" y="10703"/>
                  <a:pt x="10410" y="10695"/>
                  <a:pt x="10616" y="10691"/>
                </a:cubicBezTo>
                <a:cubicBezTo>
                  <a:pt x="11989" y="10667"/>
                  <a:pt x="13364" y="10677"/>
                  <a:pt x="14734" y="10691"/>
                </a:cubicBezTo>
                <a:cubicBezTo>
                  <a:pt x="15009" y="10694"/>
                  <a:pt x="15282" y="10661"/>
                  <a:pt x="15553" y="10641"/>
                </a:cubicBezTo>
                <a:cubicBezTo>
                  <a:pt x="15561" y="10641"/>
                  <a:pt x="15569" y="10641"/>
                  <a:pt x="15577" y="106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44960" y="3187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1237" y="8855"/>
                </a:moveTo>
                <a:lnTo>
                  <a:pt x="11237" y="8855"/>
                </a:lnTo>
                <a:lnTo>
                  <a:pt x="11237" y="8855"/>
                </a:lnTo>
              </a:path>
              <a:path w="1" h="1">
                <a:moveTo>
                  <a:pt x="11237" y="8855"/>
                </a:moveTo>
                <a:lnTo>
                  <a:pt x="11237" y="8855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17920" y="3152880"/>
            <a:ext cx="1554120" cy="482400"/>
          </a:xfrm>
          <a:custGeom>
            <a:avLst/>
            <a:gdLst/>
            <a:ahLst/>
            <a:rect l="l" t="t" r="r" b="b"/>
            <a:pathLst>
              <a:path w="4317" h="1341">
                <a:moveTo>
                  <a:pt x="10120" y="8806"/>
                </a:moveTo>
                <a:cubicBezTo>
                  <a:pt x="10120" y="9061"/>
                  <a:pt x="10098" y="9330"/>
                  <a:pt x="10145" y="9575"/>
                </a:cubicBezTo>
                <a:cubicBezTo>
                  <a:pt x="10145" y="9583"/>
                  <a:pt x="10145" y="9591"/>
                  <a:pt x="10145" y="9599"/>
                </a:cubicBezTo>
              </a:path>
              <a:path w="4317" h="1341">
                <a:moveTo>
                  <a:pt x="9773" y="9203"/>
                </a:moveTo>
                <a:cubicBezTo>
                  <a:pt x="10031" y="9168"/>
                  <a:pt x="10286" y="9119"/>
                  <a:pt x="10542" y="9079"/>
                </a:cubicBezTo>
                <a:cubicBezTo>
                  <a:pt x="10550" y="9079"/>
                  <a:pt x="10559" y="9079"/>
                  <a:pt x="10567" y="9079"/>
                </a:cubicBezTo>
                <a:cubicBezTo>
                  <a:pt x="10584" y="9210"/>
                  <a:pt x="10606" y="9350"/>
                  <a:pt x="10641" y="9475"/>
                </a:cubicBezTo>
                <a:cubicBezTo>
                  <a:pt x="10625" y="9329"/>
                  <a:pt x="10579" y="9235"/>
                  <a:pt x="10691" y="9103"/>
                </a:cubicBezTo>
                <a:cubicBezTo>
                  <a:pt x="10774" y="9006"/>
                  <a:pt x="10919" y="8896"/>
                  <a:pt x="11038" y="8954"/>
                </a:cubicBezTo>
              </a:path>
              <a:path w="4317" h="1341">
                <a:moveTo>
                  <a:pt x="11212" y="9103"/>
                </a:moveTo>
                <a:cubicBezTo>
                  <a:pt x="11212" y="9122"/>
                  <a:pt x="11212" y="9568"/>
                  <a:pt x="11212" y="9426"/>
                </a:cubicBezTo>
              </a:path>
              <a:path w="4317" h="1341">
                <a:moveTo>
                  <a:pt x="11782" y="9252"/>
                </a:moveTo>
                <a:cubicBezTo>
                  <a:pt x="11868" y="9196"/>
                  <a:pt x="11737" y="9103"/>
                  <a:pt x="11683" y="9054"/>
                </a:cubicBezTo>
                <a:cubicBezTo>
                  <a:pt x="11541" y="9120"/>
                  <a:pt x="11328" y="9333"/>
                  <a:pt x="11534" y="9500"/>
                </a:cubicBezTo>
                <a:cubicBezTo>
                  <a:pt x="11759" y="9683"/>
                  <a:pt x="11797" y="9342"/>
                  <a:pt x="11782" y="9227"/>
                </a:cubicBezTo>
                <a:cubicBezTo>
                  <a:pt x="11782" y="9319"/>
                  <a:pt x="11809" y="9416"/>
                  <a:pt x="11906" y="9451"/>
                </a:cubicBezTo>
                <a:cubicBezTo>
                  <a:pt x="12053" y="9503"/>
                  <a:pt x="12041" y="9367"/>
                  <a:pt x="12055" y="9277"/>
                </a:cubicBezTo>
                <a:cubicBezTo>
                  <a:pt x="12055" y="9285"/>
                  <a:pt x="12055" y="9294"/>
                  <a:pt x="12055" y="9302"/>
                </a:cubicBezTo>
                <a:cubicBezTo>
                  <a:pt x="12055" y="9305"/>
                  <a:pt x="12072" y="9601"/>
                  <a:pt x="12030" y="9451"/>
                </a:cubicBezTo>
                <a:cubicBezTo>
                  <a:pt x="11984" y="9284"/>
                  <a:pt x="12022" y="9081"/>
                  <a:pt x="12229" y="9054"/>
                </a:cubicBezTo>
                <a:cubicBezTo>
                  <a:pt x="12426" y="9028"/>
                  <a:pt x="12443" y="9326"/>
                  <a:pt x="12427" y="9451"/>
                </a:cubicBezTo>
                <a:cubicBezTo>
                  <a:pt x="12416" y="9534"/>
                  <a:pt x="12394" y="9517"/>
                  <a:pt x="12526" y="9426"/>
                </a:cubicBezTo>
              </a:path>
              <a:path w="4317" h="1341">
                <a:moveTo>
                  <a:pt x="12923" y="9178"/>
                </a:moveTo>
                <a:cubicBezTo>
                  <a:pt x="12780" y="9126"/>
                  <a:pt x="12528" y="9162"/>
                  <a:pt x="12551" y="9401"/>
                </a:cubicBezTo>
                <a:cubicBezTo>
                  <a:pt x="12586" y="9760"/>
                  <a:pt x="12924" y="9270"/>
                  <a:pt x="12948" y="9227"/>
                </a:cubicBezTo>
                <a:cubicBezTo>
                  <a:pt x="12903" y="9110"/>
                  <a:pt x="12923" y="9151"/>
                  <a:pt x="12923" y="9203"/>
                </a:cubicBezTo>
                <a:cubicBezTo>
                  <a:pt x="12980" y="9492"/>
                  <a:pt x="13103" y="9882"/>
                  <a:pt x="12774" y="10071"/>
                </a:cubicBezTo>
                <a:cubicBezTo>
                  <a:pt x="12419" y="10275"/>
                  <a:pt x="12605" y="9827"/>
                  <a:pt x="12626" y="9748"/>
                </a:cubicBezTo>
              </a:path>
              <a:path w="4317" h="1341">
                <a:moveTo>
                  <a:pt x="13320" y="8756"/>
                </a:moveTo>
                <a:cubicBezTo>
                  <a:pt x="13365" y="9000"/>
                  <a:pt x="13394" y="9252"/>
                  <a:pt x="13419" y="9500"/>
                </a:cubicBezTo>
                <a:cubicBezTo>
                  <a:pt x="13419" y="9517"/>
                  <a:pt x="13419" y="9533"/>
                  <a:pt x="13419" y="9550"/>
                </a:cubicBezTo>
              </a:path>
              <a:path w="4317" h="1341">
                <a:moveTo>
                  <a:pt x="13692" y="9227"/>
                </a:moveTo>
                <a:cubicBezTo>
                  <a:pt x="13783" y="9227"/>
                  <a:pt x="13854" y="9238"/>
                  <a:pt x="13940" y="9252"/>
                </a:cubicBezTo>
                <a:cubicBezTo>
                  <a:pt x="13880" y="9138"/>
                  <a:pt x="13834" y="9064"/>
                  <a:pt x="13742" y="8979"/>
                </a:cubicBezTo>
                <a:cubicBezTo>
                  <a:pt x="13636" y="9138"/>
                  <a:pt x="13597" y="9298"/>
                  <a:pt x="13816" y="9401"/>
                </a:cubicBezTo>
                <a:cubicBezTo>
                  <a:pt x="13957" y="9425"/>
                  <a:pt x="13999" y="9435"/>
                  <a:pt x="14089" y="940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81880" y="4394160"/>
            <a:ext cx="285480" cy="44640"/>
          </a:xfrm>
          <a:custGeom>
            <a:avLst/>
            <a:gdLst/>
            <a:ahLst/>
            <a:rect l="l" t="t" r="r" b="b"/>
            <a:pathLst>
              <a:path w="795" h="125">
                <a:moveTo>
                  <a:pt x="18281" y="12328"/>
                </a:moveTo>
                <a:cubicBezTo>
                  <a:pt x="18537" y="12281"/>
                  <a:pt x="18610" y="12266"/>
                  <a:pt x="18777" y="12254"/>
                </a:cubicBezTo>
              </a:path>
              <a:path w="795" h="125">
                <a:moveTo>
                  <a:pt x="19025" y="12278"/>
                </a:moveTo>
                <a:cubicBezTo>
                  <a:pt x="19042" y="12253"/>
                  <a:pt x="19058" y="12229"/>
                  <a:pt x="19075" y="12204"/>
                </a:cubicBezTo>
              </a:path>
              <a:path w="795" h="125">
                <a:moveTo>
                  <a:pt x="19075" y="12204"/>
                </a:moveTo>
                <a:lnTo>
                  <a:pt x="19075" y="12204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86240" y="4232160"/>
            <a:ext cx="482760" cy="285840"/>
          </a:xfrm>
          <a:custGeom>
            <a:avLst/>
            <a:gdLst/>
            <a:ahLst/>
            <a:rect l="l" t="t" r="r" b="b"/>
            <a:pathLst>
              <a:path w="1341" h="795">
                <a:moveTo>
                  <a:pt x="14684" y="11757"/>
                </a:moveTo>
                <a:cubicBezTo>
                  <a:pt x="14758" y="11782"/>
                  <a:pt x="14727" y="11966"/>
                  <a:pt x="14734" y="12030"/>
                </a:cubicBezTo>
                <a:cubicBezTo>
                  <a:pt x="14763" y="12281"/>
                  <a:pt x="14960" y="12343"/>
                  <a:pt x="15205" y="12328"/>
                </a:cubicBezTo>
                <a:cubicBezTo>
                  <a:pt x="15222" y="12327"/>
                  <a:pt x="15579" y="12212"/>
                  <a:pt x="15602" y="12278"/>
                </a:cubicBezTo>
              </a:path>
              <a:path w="1341" h="795">
                <a:moveTo>
                  <a:pt x="15553" y="12005"/>
                </a:moveTo>
                <a:cubicBezTo>
                  <a:pt x="15694" y="12050"/>
                  <a:pt x="15902" y="12092"/>
                  <a:pt x="16024" y="12179"/>
                </a:cubicBezTo>
                <a:cubicBezTo>
                  <a:pt x="16024" y="12187"/>
                  <a:pt x="16024" y="12196"/>
                  <a:pt x="16024" y="12204"/>
                </a:cubicBezTo>
                <a:cubicBezTo>
                  <a:pt x="15905" y="12311"/>
                  <a:pt x="15755" y="12405"/>
                  <a:pt x="15677" y="12551"/>
                </a:cubicBezTo>
                <a:cubicBezTo>
                  <a:pt x="15685" y="12551"/>
                  <a:pt x="15693" y="12551"/>
                  <a:pt x="15701" y="1255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45120" y="4224240"/>
            <a:ext cx="2027160" cy="588960"/>
          </a:xfrm>
          <a:custGeom>
            <a:avLst/>
            <a:gdLst/>
            <a:ahLst/>
            <a:rect l="l" t="t" r="r" b="b"/>
            <a:pathLst>
              <a:path w="5631" h="1638">
                <a:moveTo>
                  <a:pt x="16793" y="12576"/>
                </a:moveTo>
                <a:cubicBezTo>
                  <a:pt x="16825" y="12801"/>
                  <a:pt x="16884" y="13209"/>
                  <a:pt x="16892" y="13345"/>
                </a:cubicBezTo>
                <a:cubicBezTo>
                  <a:pt x="16839" y="13045"/>
                  <a:pt x="16675" y="12522"/>
                  <a:pt x="16991" y="12303"/>
                </a:cubicBezTo>
                <a:cubicBezTo>
                  <a:pt x="17194" y="12277"/>
                  <a:pt x="17264" y="12272"/>
                  <a:pt x="17363" y="12402"/>
                </a:cubicBezTo>
                <a:cubicBezTo>
                  <a:pt x="17342" y="12703"/>
                  <a:pt x="17231" y="12879"/>
                  <a:pt x="16867" y="12824"/>
                </a:cubicBezTo>
                <a:cubicBezTo>
                  <a:pt x="16779" y="12765"/>
                  <a:pt x="16766" y="12736"/>
                  <a:pt x="16892" y="12675"/>
                </a:cubicBezTo>
              </a:path>
              <a:path w="5631" h="1638">
                <a:moveTo>
                  <a:pt x="17512" y="12576"/>
                </a:moveTo>
                <a:cubicBezTo>
                  <a:pt x="17567" y="12810"/>
                  <a:pt x="17495" y="12535"/>
                  <a:pt x="17611" y="12402"/>
                </a:cubicBezTo>
                <a:cubicBezTo>
                  <a:pt x="17739" y="12255"/>
                  <a:pt x="17901" y="12227"/>
                  <a:pt x="18083" y="12204"/>
                </a:cubicBezTo>
                <a:cubicBezTo>
                  <a:pt x="18063" y="12347"/>
                  <a:pt x="17931" y="12494"/>
                  <a:pt x="17934" y="12650"/>
                </a:cubicBezTo>
                <a:cubicBezTo>
                  <a:pt x="17950" y="12691"/>
                  <a:pt x="17967" y="12733"/>
                  <a:pt x="17983" y="12774"/>
                </a:cubicBezTo>
                <a:cubicBezTo>
                  <a:pt x="18163" y="12717"/>
                  <a:pt x="18561" y="12534"/>
                  <a:pt x="18256" y="12303"/>
                </a:cubicBezTo>
                <a:cubicBezTo>
                  <a:pt x="18082" y="12245"/>
                  <a:pt x="18024" y="12270"/>
                  <a:pt x="18008" y="12154"/>
                </a:cubicBezTo>
              </a:path>
              <a:path w="5631" h="1638">
                <a:moveTo>
                  <a:pt x="18380" y="11881"/>
                </a:moveTo>
                <a:cubicBezTo>
                  <a:pt x="18450" y="12128"/>
                  <a:pt x="18492" y="12380"/>
                  <a:pt x="18554" y="12626"/>
                </a:cubicBezTo>
                <a:cubicBezTo>
                  <a:pt x="18554" y="12618"/>
                  <a:pt x="18554" y="12609"/>
                  <a:pt x="18554" y="12601"/>
                </a:cubicBezTo>
              </a:path>
              <a:path w="5631" h="1638">
                <a:moveTo>
                  <a:pt x="19124" y="11931"/>
                </a:moveTo>
                <a:cubicBezTo>
                  <a:pt x="19124" y="11873"/>
                  <a:pt x="19124" y="11815"/>
                  <a:pt x="19124" y="11757"/>
                </a:cubicBezTo>
                <a:cubicBezTo>
                  <a:pt x="19177" y="11759"/>
                  <a:pt x="18892" y="12590"/>
                  <a:pt x="18852" y="12700"/>
                </a:cubicBezTo>
                <a:cubicBezTo>
                  <a:pt x="18807" y="12822"/>
                  <a:pt x="18702" y="13004"/>
                  <a:pt x="18777" y="12898"/>
                </a:cubicBezTo>
              </a:path>
              <a:path w="5631" h="1638">
                <a:moveTo>
                  <a:pt x="19372" y="12179"/>
                </a:moveTo>
                <a:cubicBezTo>
                  <a:pt x="19406" y="12309"/>
                  <a:pt x="19442" y="12443"/>
                  <a:pt x="19472" y="12576"/>
                </a:cubicBezTo>
                <a:cubicBezTo>
                  <a:pt x="19478" y="12415"/>
                  <a:pt x="19434" y="12210"/>
                  <a:pt x="19596" y="12105"/>
                </a:cubicBezTo>
                <a:cubicBezTo>
                  <a:pt x="19699" y="12038"/>
                  <a:pt x="19983" y="12035"/>
                  <a:pt x="19993" y="12154"/>
                </a:cubicBezTo>
                <a:cubicBezTo>
                  <a:pt x="20010" y="12356"/>
                  <a:pt x="19965" y="12460"/>
                  <a:pt x="20042" y="12626"/>
                </a:cubicBezTo>
                <a:cubicBezTo>
                  <a:pt x="20190" y="12485"/>
                  <a:pt x="20258" y="12390"/>
                  <a:pt x="20340" y="12204"/>
                </a:cubicBezTo>
                <a:cubicBezTo>
                  <a:pt x="20360" y="12318"/>
                  <a:pt x="20365" y="12593"/>
                  <a:pt x="20538" y="12601"/>
                </a:cubicBezTo>
                <a:cubicBezTo>
                  <a:pt x="20854" y="12616"/>
                  <a:pt x="20712" y="11997"/>
                  <a:pt x="20687" y="11857"/>
                </a:cubicBezTo>
                <a:cubicBezTo>
                  <a:pt x="20602" y="11743"/>
                  <a:pt x="20687" y="12177"/>
                  <a:pt x="20687" y="12179"/>
                </a:cubicBezTo>
                <a:cubicBezTo>
                  <a:pt x="20708" y="12397"/>
                  <a:pt x="20633" y="12610"/>
                  <a:pt x="20836" y="12502"/>
                </a:cubicBezTo>
              </a:path>
              <a:path w="5631" h="1638">
                <a:moveTo>
                  <a:pt x="20861" y="12229"/>
                </a:moveTo>
                <a:cubicBezTo>
                  <a:pt x="21021" y="12217"/>
                  <a:pt x="21099" y="12211"/>
                  <a:pt x="21183" y="12080"/>
                </a:cubicBezTo>
                <a:cubicBezTo>
                  <a:pt x="21045" y="12107"/>
                  <a:pt x="20877" y="12234"/>
                  <a:pt x="20985" y="12402"/>
                </a:cubicBezTo>
                <a:cubicBezTo>
                  <a:pt x="21105" y="12589"/>
                  <a:pt x="21379" y="12285"/>
                  <a:pt x="21456" y="12229"/>
                </a:cubicBezTo>
                <a:cubicBezTo>
                  <a:pt x="21591" y="12168"/>
                  <a:pt x="21527" y="12231"/>
                  <a:pt x="21506" y="12378"/>
                </a:cubicBezTo>
                <a:cubicBezTo>
                  <a:pt x="21590" y="12207"/>
                  <a:pt x="21669" y="12006"/>
                  <a:pt x="21878" y="11956"/>
                </a:cubicBezTo>
                <a:cubicBezTo>
                  <a:pt x="21955" y="11938"/>
                  <a:pt x="22160" y="11940"/>
                  <a:pt x="22250" y="11931"/>
                </a:cubicBezTo>
                <a:cubicBezTo>
                  <a:pt x="22150" y="12006"/>
                  <a:pt x="21992" y="12062"/>
                  <a:pt x="22175" y="12129"/>
                </a:cubicBezTo>
                <a:cubicBezTo>
                  <a:pt x="22325" y="12172"/>
                  <a:pt x="22365" y="12171"/>
                  <a:pt x="22423" y="12254"/>
                </a:cubicBezTo>
                <a:cubicBezTo>
                  <a:pt x="22216" y="12384"/>
                  <a:pt x="22175" y="12377"/>
                  <a:pt x="21927" y="1237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Where to begin…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truction -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tractor –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9900"/>
                </a:solidFill>
                <a:latin typeface="Verdana"/>
              </a:rPr>
              <a:t>What information would you need to create a triangle in terms of angles and sides?  Do you really need to know all 3 angles and side lengths to create a triangl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4205160" y="2759040"/>
            <a:ext cx="4064040" cy="339840"/>
          </a:xfrm>
          <a:custGeom>
            <a:avLst/>
            <a:gdLst/>
            <a:ahLst/>
            <a:rect l="l" t="t" r="r" b="b"/>
            <a:pathLst>
              <a:path w="11287" h="943">
                <a:moveTo>
                  <a:pt x="11782" y="8359"/>
                </a:moveTo>
                <a:cubicBezTo>
                  <a:pt x="11795" y="8456"/>
                  <a:pt x="11827" y="8548"/>
                  <a:pt x="11782" y="8607"/>
                </a:cubicBezTo>
              </a:path>
              <a:path w="11287" h="943">
                <a:moveTo>
                  <a:pt x="11683" y="8037"/>
                </a:moveTo>
                <a:lnTo>
                  <a:pt x="11683" y="8037"/>
                </a:lnTo>
                <a:lnTo>
                  <a:pt x="11683" y="8037"/>
                </a:lnTo>
              </a:path>
              <a:path w="11287" h="943">
                <a:moveTo>
                  <a:pt x="11683" y="8037"/>
                </a:moveTo>
                <a:lnTo>
                  <a:pt x="11683" y="8037"/>
                </a:lnTo>
              </a:path>
              <a:path w="11287" h="943">
                <a:moveTo>
                  <a:pt x="13047" y="8310"/>
                </a:moveTo>
                <a:cubicBezTo>
                  <a:pt x="13055" y="8404"/>
                  <a:pt x="13079" y="8539"/>
                  <a:pt x="13097" y="8558"/>
                </a:cubicBezTo>
              </a:path>
              <a:path w="11287" h="943">
                <a:moveTo>
                  <a:pt x="12973" y="7987"/>
                </a:moveTo>
                <a:cubicBezTo>
                  <a:pt x="12981" y="7995"/>
                  <a:pt x="12990" y="8004"/>
                  <a:pt x="12998" y="8012"/>
                </a:cubicBezTo>
              </a:path>
              <a:path w="11287" h="943">
                <a:moveTo>
                  <a:pt x="12998" y="8012"/>
                </a:moveTo>
                <a:lnTo>
                  <a:pt x="12998" y="8012"/>
                </a:lnTo>
              </a:path>
              <a:path w="11287" h="943">
                <a:moveTo>
                  <a:pt x="18207" y="8037"/>
                </a:moveTo>
                <a:lnTo>
                  <a:pt x="18207" y="8037"/>
                </a:lnTo>
              </a:path>
              <a:path w="11287" h="943">
                <a:moveTo>
                  <a:pt x="20191" y="8012"/>
                </a:moveTo>
                <a:cubicBezTo>
                  <a:pt x="20131" y="8147"/>
                  <a:pt x="20080" y="8445"/>
                  <a:pt x="20365" y="8359"/>
                </a:cubicBezTo>
                <a:cubicBezTo>
                  <a:pt x="20606" y="8286"/>
                  <a:pt x="20343" y="8083"/>
                  <a:pt x="20265" y="8037"/>
                </a:cubicBezTo>
              </a:path>
              <a:path w="11287" h="943">
                <a:moveTo>
                  <a:pt x="22944" y="7665"/>
                </a:moveTo>
                <a:cubicBezTo>
                  <a:pt x="22952" y="7665"/>
                  <a:pt x="22961" y="7665"/>
                  <a:pt x="22969" y="76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32120" y="2813040"/>
            <a:ext cx="911160" cy="322200"/>
          </a:xfrm>
          <a:custGeom>
            <a:avLst/>
            <a:gdLst/>
            <a:ahLst/>
            <a:rect l="l" t="t" r="r" b="b"/>
            <a:pathLst>
              <a:path w="2531" h="894">
                <a:moveTo>
                  <a:pt x="10368" y="7838"/>
                </a:moveTo>
                <a:cubicBezTo>
                  <a:pt x="10403" y="8099"/>
                  <a:pt x="10496" y="8348"/>
                  <a:pt x="10542" y="8607"/>
                </a:cubicBezTo>
                <a:cubicBezTo>
                  <a:pt x="10542" y="8632"/>
                  <a:pt x="10542" y="8657"/>
                  <a:pt x="10542" y="8682"/>
                </a:cubicBezTo>
                <a:cubicBezTo>
                  <a:pt x="10530" y="8507"/>
                  <a:pt x="10467" y="8311"/>
                  <a:pt x="10641" y="8186"/>
                </a:cubicBezTo>
                <a:cubicBezTo>
                  <a:pt x="10783" y="8138"/>
                  <a:pt x="10825" y="8119"/>
                  <a:pt x="10914" y="8186"/>
                </a:cubicBezTo>
                <a:cubicBezTo>
                  <a:pt x="11001" y="8458"/>
                  <a:pt x="10985" y="8592"/>
                  <a:pt x="10666" y="8682"/>
                </a:cubicBezTo>
                <a:cubicBezTo>
                  <a:pt x="10472" y="8737"/>
                  <a:pt x="10605" y="8623"/>
                  <a:pt x="10641" y="8582"/>
                </a:cubicBezTo>
              </a:path>
              <a:path w="2531" h="894">
                <a:moveTo>
                  <a:pt x="11088" y="8285"/>
                </a:moveTo>
                <a:cubicBezTo>
                  <a:pt x="11109" y="8396"/>
                  <a:pt x="11097" y="8521"/>
                  <a:pt x="11137" y="8632"/>
                </a:cubicBezTo>
                <a:cubicBezTo>
                  <a:pt x="11154" y="8657"/>
                  <a:pt x="11170" y="8681"/>
                  <a:pt x="11187" y="8706"/>
                </a:cubicBezTo>
                <a:cubicBezTo>
                  <a:pt x="11392" y="8668"/>
                  <a:pt x="11433" y="8576"/>
                  <a:pt x="11460" y="8359"/>
                </a:cubicBezTo>
                <a:cubicBezTo>
                  <a:pt x="11460" y="8285"/>
                  <a:pt x="11460" y="8227"/>
                  <a:pt x="11460" y="8285"/>
                </a:cubicBezTo>
                <a:cubicBezTo>
                  <a:pt x="11475" y="8333"/>
                  <a:pt x="11555" y="8723"/>
                  <a:pt x="11633" y="8706"/>
                </a:cubicBezTo>
                <a:cubicBezTo>
                  <a:pt x="11650" y="8681"/>
                  <a:pt x="11666" y="8657"/>
                  <a:pt x="11683" y="8632"/>
                </a:cubicBezTo>
              </a:path>
              <a:path w="2531" h="894">
                <a:moveTo>
                  <a:pt x="11857" y="7813"/>
                </a:moveTo>
                <a:cubicBezTo>
                  <a:pt x="11985" y="8049"/>
                  <a:pt x="12039" y="8289"/>
                  <a:pt x="12080" y="8558"/>
                </a:cubicBezTo>
                <a:cubicBezTo>
                  <a:pt x="12080" y="8592"/>
                  <a:pt x="12089" y="8596"/>
                  <a:pt x="12129" y="8558"/>
                </a:cubicBezTo>
              </a:path>
              <a:path w="2531" h="894">
                <a:moveTo>
                  <a:pt x="12725" y="8384"/>
                </a:moveTo>
                <a:cubicBezTo>
                  <a:pt x="12748" y="8268"/>
                  <a:pt x="12759" y="8235"/>
                  <a:pt x="12725" y="8161"/>
                </a:cubicBezTo>
                <a:cubicBezTo>
                  <a:pt x="12535" y="8136"/>
                  <a:pt x="12283" y="8216"/>
                  <a:pt x="12378" y="8483"/>
                </a:cubicBezTo>
                <a:cubicBezTo>
                  <a:pt x="12489" y="8795"/>
                  <a:pt x="12749" y="8422"/>
                  <a:pt x="12774" y="8310"/>
                </a:cubicBezTo>
              </a:path>
              <a:path w="2531" h="894">
                <a:moveTo>
                  <a:pt x="12650" y="7813"/>
                </a:moveTo>
                <a:cubicBezTo>
                  <a:pt x="12716" y="8033"/>
                  <a:pt x="12772" y="8255"/>
                  <a:pt x="12824" y="8483"/>
                </a:cubicBezTo>
                <a:cubicBezTo>
                  <a:pt x="12856" y="8625"/>
                  <a:pt x="12853" y="8634"/>
                  <a:pt x="12898" y="850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86200" y="2938320"/>
            <a:ext cx="304920" cy="384480"/>
          </a:xfrm>
          <a:custGeom>
            <a:avLst/>
            <a:gdLst/>
            <a:ahLst/>
            <a:rect l="l" t="t" r="r" b="b"/>
            <a:pathLst>
              <a:path w="845" h="1067">
                <a:moveTo>
                  <a:pt x="13295" y="8458"/>
                </a:moveTo>
                <a:cubicBezTo>
                  <a:pt x="13350" y="8531"/>
                  <a:pt x="13375" y="8531"/>
                  <a:pt x="13370" y="8582"/>
                </a:cubicBezTo>
                <a:cubicBezTo>
                  <a:pt x="13323" y="8396"/>
                  <a:pt x="13319" y="8347"/>
                  <a:pt x="13419" y="8186"/>
                </a:cubicBezTo>
                <a:cubicBezTo>
                  <a:pt x="13626" y="8249"/>
                  <a:pt x="13630" y="8396"/>
                  <a:pt x="13667" y="8607"/>
                </a:cubicBezTo>
                <a:cubicBezTo>
                  <a:pt x="13667" y="8671"/>
                  <a:pt x="13694" y="8652"/>
                  <a:pt x="13767" y="8533"/>
                </a:cubicBezTo>
              </a:path>
              <a:path w="845" h="1067">
                <a:moveTo>
                  <a:pt x="13990" y="8161"/>
                </a:moveTo>
                <a:cubicBezTo>
                  <a:pt x="13918" y="8203"/>
                  <a:pt x="13601" y="8654"/>
                  <a:pt x="13816" y="8582"/>
                </a:cubicBezTo>
                <a:cubicBezTo>
                  <a:pt x="13922" y="8547"/>
                  <a:pt x="13937" y="8324"/>
                  <a:pt x="13965" y="8235"/>
                </a:cubicBezTo>
                <a:cubicBezTo>
                  <a:pt x="14101" y="8544"/>
                  <a:pt x="14284" y="8871"/>
                  <a:pt x="13940" y="9128"/>
                </a:cubicBezTo>
                <a:cubicBezTo>
                  <a:pt x="13682" y="9321"/>
                  <a:pt x="13577" y="9249"/>
                  <a:pt x="13444" y="907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68960" y="2919240"/>
            <a:ext cx="330120" cy="152640"/>
          </a:xfrm>
          <a:custGeom>
            <a:avLst/>
            <a:gdLst/>
            <a:ahLst/>
            <a:rect l="l" t="t" r="r" b="b"/>
            <a:pathLst>
              <a:path w="919" h="423">
                <a:moveTo>
                  <a:pt x="14833" y="8111"/>
                </a:moveTo>
                <a:cubicBezTo>
                  <a:pt x="14717" y="8141"/>
                  <a:pt x="14559" y="8316"/>
                  <a:pt x="14635" y="8458"/>
                </a:cubicBezTo>
                <a:cubicBezTo>
                  <a:pt x="14759" y="8688"/>
                  <a:pt x="15151" y="8392"/>
                  <a:pt x="15007" y="8186"/>
                </a:cubicBezTo>
                <a:cubicBezTo>
                  <a:pt x="14974" y="8178"/>
                  <a:pt x="14941" y="8169"/>
                  <a:pt x="14908" y="8161"/>
                </a:cubicBezTo>
              </a:path>
              <a:path w="919" h="423">
                <a:moveTo>
                  <a:pt x="15205" y="8334"/>
                </a:moveTo>
                <a:cubicBezTo>
                  <a:pt x="15205" y="8367"/>
                  <a:pt x="15205" y="8401"/>
                  <a:pt x="15205" y="8434"/>
                </a:cubicBezTo>
                <a:cubicBezTo>
                  <a:pt x="15225" y="8272"/>
                  <a:pt x="15254" y="8156"/>
                  <a:pt x="15429" y="8111"/>
                </a:cubicBezTo>
                <a:cubicBezTo>
                  <a:pt x="15470" y="8111"/>
                  <a:pt x="15512" y="8111"/>
                  <a:pt x="15553" y="81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96000" y="2857680"/>
            <a:ext cx="1419120" cy="401400"/>
          </a:xfrm>
          <a:custGeom>
            <a:avLst/>
            <a:gdLst/>
            <a:ahLst/>
            <a:rect l="l" t="t" r="r" b="b"/>
            <a:pathLst>
              <a:path w="3945" h="1117">
                <a:moveTo>
                  <a:pt x="16148" y="8210"/>
                </a:moveTo>
                <a:cubicBezTo>
                  <a:pt x="16133" y="8335"/>
                  <a:pt x="16123" y="8430"/>
                  <a:pt x="16123" y="8558"/>
                </a:cubicBezTo>
                <a:cubicBezTo>
                  <a:pt x="16084" y="8467"/>
                  <a:pt x="16035" y="8239"/>
                  <a:pt x="16173" y="8186"/>
                </a:cubicBezTo>
                <a:cubicBezTo>
                  <a:pt x="16329" y="8126"/>
                  <a:pt x="16444" y="8404"/>
                  <a:pt x="16470" y="8508"/>
                </a:cubicBezTo>
                <a:cubicBezTo>
                  <a:pt x="16470" y="8310"/>
                  <a:pt x="16476" y="8237"/>
                  <a:pt x="16594" y="8086"/>
                </a:cubicBezTo>
                <a:cubicBezTo>
                  <a:pt x="16803" y="8190"/>
                  <a:pt x="16818" y="8274"/>
                  <a:pt x="16793" y="8508"/>
                </a:cubicBezTo>
              </a:path>
              <a:path w="3945" h="1117">
                <a:moveTo>
                  <a:pt x="17338" y="8285"/>
                </a:moveTo>
                <a:cubicBezTo>
                  <a:pt x="17296" y="8135"/>
                  <a:pt x="17201" y="8079"/>
                  <a:pt x="17066" y="8210"/>
                </a:cubicBezTo>
                <a:cubicBezTo>
                  <a:pt x="16884" y="8387"/>
                  <a:pt x="17024" y="8704"/>
                  <a:pt x="17214" y="8458"/>
                </a:cubicBezTo>
                <a:cubicBezTo>
                  <a:pt x="17253" y="8360"/>
                  <a:pt x="17270" y="8347"/>
                  <a:pt x="17264" y="8285"/>
                </a:cubicBezTo>
                <a:cubicBezTo>
                  <a:pt x="17278" y="8375"/>
                  <a:pt x="17371" y="8662"/>
                  <a:pt x="17512" y="8483"/>
                </a:cubicBezTo>
                <a:cubicBezTo>
                  <a:pt x="17529" y="8433"/>
                  <a:pt x="17545" y="8384"/>
                  <a:pt x="17562" y="8334"/>
                </a:cubicBezTo>
              </a:path>
              <a:path w="3945" h="1117">
                <a:moveTo>
                  <a:pt x="17512" y="7938"/>
                </a:moveTo>
                <a:cubicBezTo>
                  <a:pt x="17526" y="8138"/>
                  <a:pt x="17559" y="8335"/>
                  <a:pt x="17587" y="8533"/>
                </a:cubicBezTo>
                <a:cubicBezTo>
                  <a:pt x="17587" y="8602"/>
                  <a:pt x="17601" y="8569"/>
                  <a:pt x="17636" y="8409"/>
                </a:cubicBezTo>
              </a:path>
              <a:path w="3945" h="1117">
                <a:moveTo>
                  <a:pt x="17884" y="7987"/>
                </a:moveTo>
                <a:cubicBezTo>
                  <a:pt x="17804" y="8186"/>
                  <a:pt x="17737" y="8236"/>
                  <a:pt x="17537" y="8334"/>
                </a:cubicBezTo>
                <a:cubicBezTo>
                  <a:pt x="17657" y="8240"/>
                  <a:pt x="17698" y="8374"/>
                  <a:pt x="17810" y="8434"/>
                </a:cubicBezTo>
                <a:cubicBezTo>
                  <a:pt x="17982" y="8526"/>
                  <a:pt x="18042" y="8399"/>
                  <a:pt x="18157" y="8285"/>
                </a:cubicBezTo>
                <a:cubicBezTo>
                  <a:pt x="18168" y="8381"/>
                  <a:pt x="18176" y="8501"/>
                  <a:pt x="18231" y="8558"/>
                </a:cubicBezTo>
              </a:path>
              <a:path w="3945" h="1117">
                <a:moveTo>
                  <a:pt x="18207" y="8037"/>
                </a:moveTo>
                <a:cubicBezTo>
                  <a:pt x="18182" y="8012"/>
                  <a:pt x="18174" y="8004"/>
                  <a:pt x="18207" y="8037"/>
                </a:cubicBezTo>
              </a:path>
              <a:path w="3945" h="1117">
                <a:moveTo>
                  <a:pt x="18430" y="8384"/>
                </a:moveTo>
                <a:cubicBezTo>
                  <a:pt x="18448" y="8475"/>
                  <a:pt x="18457" y="8482"/>
                  <a:pt x="18455" y="8533"/>
                </a:cubicBezTo>
                <a:cubicBezTo>
                  <a:pt x="18455" y="8389"/>
                  <a:pt x="18448" y="8292"/>
                  <a:pt x="18554" y="8186"/>
                </a:cubicBezTo>
                <a:cubicBezTo>
                  <a:pt x="18579" y="8169"/>
                  <a:pt x="18603" y="8153"/>
                  <a:pt x="18628" y="8136"/>
                </a:cubicBezTo>
                <a:cubicBezTo>
                  <a:pt x="18733" y="8288"/>
                  <a:pt x="18733" y="8409"/>
                  <a:pt x="18777" y="8582"/>
                </a:cubicBezTo>
              </a:path>
              <a:path w="3945" h="1117">
                <a:moveTo>
                  <a:pt x="19124" y="8161"/>
                </a:moveTo>
                <a:cubicBezTo>
                  <a:pt x="19097" y="8183"/>
                  <a:pt x="18800" y="8485"/>
                  <a:pt x="18976" y="8508"/>
                </a:cubicBezTo>
                <a:cubicBezTo>
                  <a:pt x="19133" y="8528"/>
                  <a:pt x="19134" y="8315"/>
                  <a:pt x="19149" y="8210"/>
                </a:cubicBezTo>
                <a:cubicBezTo>
                  <a:pt x="19197" y="8423"/>
                  <a:pt x="19281" y="8760"/>
                  <a:pt x="19124" y="8954"/>
                </a:cubicBezTo>
                <a:cubicBezTo>
                  <a:pt x="18950" y="9168"/>
                  <a:pt x="18736" y="9027"/>
                  <a:pt x="18554" y="8954"/>
                </a:cubicBezTo>
              </a:path>
              <a:path w="3945" h="1117">
                <a:moveTo>
                  <a:pt x="19893" y="7987"/>
                </a:moveTo>
                <a:cubicBezTo>
                  <a:pt x="19794" y="8037"/>
                  <a:pt x="19761" y="8054"/>
                  <a:pt x="19695" y="8086"/>
                </a:cubicBezTo>
                <a:cubicBezTo>
                  <a:pt x="19779" y="8171"/>
                  <a:pt x="19941" y="8216"/>
                  <a:pt x="20042" y="8310"/>
                </a:cubicBezTo>
                <a:cubicBezTo>
                  <a:pt x="19829" y="8406"/>
                  <a:pt x="19582" y="8486"/>
                  <a:pt x="19546" y="82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419960" y="2759040"/>
            <a:ext cx="1260360" cy="509760"/>
          </a:xfrm>
          <a:custGeom>
            <a:avLst/>
            <a:gdLst/>
            <a:ahLst/>
            <a:rect l="l" t="t" r="r" b="b"/>
            <a:pathLst>
              <a:path w="3498" h="1415">
                <a:moveTo>
                  <a:pt x="20613" y="8186"/>
                </a:moveTo>
                <a:cubicBezTo>
                  <a:pt x="20652" y="8286"/>
                  <a:pt x="20657" y="8304"/>
                  <a:pt x="20687" y="8359"/>
                </a:cubicBezTo>
                <a:cubicBezTo>
                  <a:pt x="20668" y="8267"/>
                  <a:pt x="20642" y="8109"/>
                  <a:pt x="20737" y="8037"/>
                </a:cubicBezTo>
                <a:cubicBezTo>
                  <a:pt x="20848" y="7952"/>
                  <a:pt x="20804" y="8360"/>
                  <a:pt x="20886" y="8285"/>
                </a:cubicBezTo>
                <a:cubicBezTo>
                  <a:pt x="20909" y="8108"/>
                  <a:pt x="20878" y="8078"/>
                  <a:pt x="21034" y="8012"/>
                </a:cubicBezTo>
                <a:cubicBezTo>
                  <a:pt x="21103" y="8136"/>
                  <a:pt x="21179" y="8268"/>
                  <a:pt x="21109" y="8384"/>
                </a:cubicBezTo>
              </a:path>
              <a:path w="3498" h="1415">
                <a:moveTo>
                  <a:pt x="21282" y="8161"/>
                </a:moveTo>
                <a:cubicBezTo>
                  <a:pt x="21354" y="8161"/>
                  <a:pt x="21411" y="8148"/>
                  <a:pt x="21481" y="8136"/>
                </a:cubicBezTo>
                <a:cubicBezTo>
                  <a:pt x="21398" y="8061"/>
                  <a:pt x="21124" y="7964"/>
                  <a:pt x="21208" y="8235"/>
                </a:cubicBezTo>
                <a:cubicBezTo>
                  <a:pt x="21278" y="8462"/>
                  <a:pt x="21448" y="8402"/>
                  <a:pt x="21605" y="8384"/>
                </a:cubicBezTo>
              </a:path>
              <a:path w="3498" h="1415">
                <a:moveTo>
                  <a:pt x="21878" y="7665"/>
                </a:moveTo>
                <a:cubicBezTo>
                  <a:pt x="21914" y="7900"/>
                  <a:pt x="21946" y="8152"/>
                  <a:pt x="22002" y="8384"/>
                </a:cubicBezTo>
                <a:cubicBezTo>
                  <a:pt x="22022" y="8425"/>
                  <a:pt x="22031" y="8452"/>
                  <a:pt x="22027" y="8409"/>
                </a:cubicBezTo>
              </a:path>
              <a:path w="3498" h="1415">
                <a:moveTo>
                  <a:pt x="21654" y="8086"/>
                </a:moveTo>
                <a:cubicBezTo>
                  <a:pt x="21870" y="8115"/>
                  <a:pt x="22366" y="8232"/>
                  <a:pt x="22399" y="7888"/>
                </a:cubicBezTo>
                <a:cubicBezTo>
                  <a:pt x="22360" y="7771"/>
                  <a:pt x="22373" y="7736"/>
                  <a:pt x="22299" y="7714"/>
                </a:cubicBezTo>
                <a:cubicBezTo>
                  <a:pt x="22304" y="7905"/>
                  <a:pt x="22316" y="8094"/>
                  <a:pt x="22324" y="8285"/>
                </a:cubicBezTo>
                <a:cubicBezTo>
                  <a:pt x="22348" y="8189"/>
                  <a:pt x="22352" y="8131"/>
                  <a:pt x="22423" y="8062"/>
                </a:cubicBezTo>
                <a:cubicBezTo>
                  <a:pt x="22456" y="8045"/>
                  <a:pt x="22490" y="8029"/>
                  <a:pt x="22523" y="8012"/>
                </a:cubicBezTo>
                <a:cubicBezTo>
                  <a:pt x="22692" y="8137"/>
                  <a:pt x="22696" y="8196"/>
                  <a:pt x="22696" y="8409"/>
                </a:cubicBezTo>
              </a:path>
              <a:path w="3498" h="1415">
                <a:moveTo>
                  <a:pt x="22895" y="8136"/>
                </a:moveTo>
                <a:cubicBezTo>
                  <a:pt x="22888" y="8209"/>
                  <a:pt x="22868" y="8576"/>
                  <a:pt x="23044" y="8384"/>
                </a:cubicBezTo>
                <a:cubicBezTo>
                  <a:pt x="23093" y="8285"/>
                  <a:pt x="23109" y="8252"/>
                  <a:pt x="23143" y="8186"/>
                </a:cubicBezTo>
                <a:cubicBezTo>
                  <a:pt x="23165" y="8241"/>
                  <a:pt x="23143" y="8328"/>
                  <a:pt x="23143" y="8409"/>
                </a:cubicBezTo>
                <a:cubicBezTo>
                  <a:pt x="23169" y="8277"/>
                  <a:pt x="23178" y="8179"/>
                  <a:pt x="23292" y="8086"/>
                </a:cubicBezTo>
                <a:cubicBezTo>
                  <a:pt x="23317" y="8078"/>
                  <a:pt x="23341" y="8070"/>
                  <a:pt x="23366" y="8062"/>
                </a:cubicBezTo>
                <a:cubicBezTo>
                  <a:pt x="23489" y="8230"/>
                  <a:pt x="23481" y="8298"/>
                  <a:pt x="23465" y="8508"/>
                </a:cubicBezTo>
              </a:path>
              <a:path w="3498" h="1415">
                <a:moveTo>
                  <a:pt x="23937" y="8086"/>
                </a:moveTo>
                <a:cubicBezTo>
                  <a:pt x="23854" y="8116"/>
                  <a:pt x="23428" y="8361"/>
                  <a:pt x="23738" y="8434"/>
                </a:cubicBezTo>
                <a:cubicBezTo>
                  <a:pt x="23878" y="8467"/>
                  <a:pt x="23906" y="8293"/>
                  <a:pt x="23937" y="8210"/>
                </a:cubicBezTo>
                <a:cubicBezTo>
                  <a:pt x="23937" y="8202"/>
                  <a:pt x="23937" y="8194"/>
                  <a:pt x="23937" y="8186"/>
                </a:cubicBezTo>
                <a:cubicBezTo>
                  <a:pt x="24030" y="8384"/>
                  <a:pt x="24203" y="8640"/>
                  <a:pt x="24085" y="8880"/>
                </a:cubicBezTo>
                <a:cubicBezTo>
                  <a:pt x="23889" y="9279"/>
                  <a:pt x="23553" y="9023"/>
                  <a:pt x="23440" y="880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83280" y="3517920"/>
            <a:ext cx="9720" cy="19080"/>
          </a:xfrm>
          <a:custGeom>
            <a:avLst/>
            <a:gdLst/>
            <a:ahLst/>
            <a:rect l="l" t="t" r="r" b="b"/>
            <a:pathLst>
              <a:path w="26" h="51">
                <a:moveTo>
                  <a:pt x="19422" y="9773"/>
                </a:moveTo>
                <a:cubicBezTo>
                  <a:pt x="19397" y="9798"/>
                  <a:pt x="19389" y="9806"/>
                  <a:pt x="19422" y="98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02040" y="3259080"/>
            <a:ext cx="938160" cy="258840"/>
          </a:xfrm>
          <a:custGeom>
            <a:avLst/>
            <a:gdLst/>
            <a:ahLst/>
            <a:rect l="l" t="t" r="r" b="b"/>
            <a:pathLst>
              <a:path w="2605" h="720">
                <a:moveTo>
                  <a:pt x="10840" y="9178"/>
                </a:moveTo>
                <a:cubicBezTo>
                  <a:pt x="10866" y="9363"/>
                  <a:pt x="10897" y="9545"/>
                  <a:pt x="10939" y="9723"/>
                </a:cubicBezTo>
                <a:cubicBezTo>
                  <a:pt x="10939" y="9748"/>
                  <a:pt x="10939" y="9756"/>
                  <a:pt x="10939" y="9723"/>
                </a:cubicBezTo>
                <a:cubicBezTo>
                  <a:pt x="10900" y="9665"/>
                  <a:pt x="10871" y="9598"/>
                  <a:pt x="10864" y="9525"/>
                </a:cubicBezTo>
                <a:cubicBezTo>
                  <a:pt x="10859" y="9473"/>
                  <a:pt x="10867" y="9544"/>
                  <a:pt x="10889" y="9500"/>
                </a:cubicBezTo>
                <a:cubicBezTo>
                  <a:pt x="10915" y="9422"/>
                  <a:pt x="10909" y="9527"/>
                  <a:pt x="10914" y="9550"/>
                </a:cubicBezTo>
                <a:cubicBezTo>
                  <a:pt x="10962" y="9761"/>
                  <a:pt x="10957" y="9554"/>
                  <a:pt x="10988" y="9500"/>
                </a:cubicBezTo>
                <a:cubicBezTo>
                  <a:pt x="11062" y="9372"/>
                  <a:pt x="11304" y="9359"/>
                  <a:pt x="11410" y="9451"/>
                </a:cubicBezTo>
                <a:cubicBezTo>
                  <a:pt x="11427" y="9484"/>
                  <a:pt x="11443" y="9517"/>
                  <a:pt x="11460" y="9550"/>
                </a:cubicBezTo>
                <a:cubicBezTo>
                  <a:pt x="11361" y="9707"/>
                  <a:pt x="11251" y="9845"/>
                  <a:pt x="11038" y="9748"/>
                </a:cubicBezTo>
                <a:cubicBezTo>
                  <a:pt x="10930" y="9699"/>
                  <a:pt x="11085" y="9650"/>
                  <a:pt x="11088" y="9649"/>
                </a:cubicBezTo>
              </a:path>
              <a:path w="2605" h="720">
                <a:moveTo>
                  <a:pt x="11832" y="9525"/>
                </a:moveTo>
                <a:cubicBezTo>
                  <a:pt x="11797" y="9445"/>
                  <a:pt x="11652" y="9392"/>
                  <a:pt x="11584" y="9525"/>
                </a:cubicBezTo>
                <a:cubicBezTo>
                  <a:pt x="11562" y="9659"/>
                  <a:pt x="11542" y="9697"/>
                  <a:pt x="11633" y="9748"/>
                </a:cubicBezTo>
                <a:cubicBezTo>
                  <a:pt x="11794" y="9668"/>
                  <a:pt x="11832" y="9465"/>
                  <a:pt x="11832" y="9550"/>
                </a:cubicBezTo>
                <a:cubicBezTo>
                  <a:pt x="11967" y="9685"/>
                  <a:pt x="11964" y="9684"/>
                  <a:pt x="12154" y="9674"/>
                </a:cubicBezTo>
              </a:path>
              <a:path w="2605" h="720">
                <a:moveTo>
                  <a:pt x="12353" y="9302"/>
                </a:moveTo>
                <a:cubicBezTo>
                  <a:pt x="12253" y="9327"/>
                  <a:pt x="12219" y="9336"/>
                  <a:pt x="12179" y="9401"/>
                </a:cubicBezTo>
                <a:cubicBezTo>
                  <a:pt x="12256" y="9494"/>
                  <a:pt x="12396" y="9529"/>
                  <a:pt x="12502" y="9599"/>
                </a:cubicBezTo>
                <a:cubicBezTo>
                  <a:pt x="12340" y="9715"/>
                  <a:pt x="12233" y="9753"/>
                  <a:pt x="12204" y="9550"/>
                </a:cubicBezTo>
              </a:path>
              <a:path w="2605" h="720">
                <a:moveTo>
                  <a:pt x="12626" y="9500"/>
                </a:moveTo>
                <a:cubicBezTo>
                  <a:pt x="12694" y="9512"/>
                  <a:pt x="12768" y="9522"/>
                  <a:pt x="12824" y="9550"/>
                </a:cubicBezTo>
                <a:cubicBezTo>
                  <a:pt x="12792" y="9440"/>
                  <a:pt x="12713" y="9317"/>
                  <a:pt x="12576" y="9401"/>
                </a:cubicBezTo>
                <a:cubicBezTo>
                  <a:pt x="12334" y="9549"/>
                  <a:pt x="12645" y="9730"/>
                  <a:pt x="12799" y="9723"/>
                </a:cubicBezTo>
                <a:cubicBezTo>
                  <a:pt x="12949" y="9716"/>
                  <a:pt x="13221" y="9612"/>
                  <a:pt x="13295" y="9475"/>
                </a:cubicBezTo>
                <a:cubicBezTo>
                  <a:pt x="13303" y="9450"/>
                  <a:pt x="13312" y="9426"/>
                  <a:pt x="13320" y="9401"/>
                </a:cubicBezTo>
                <a:cubicBezTo>
                  <a:pt x="13182" y="9321"/>
                  <a:pt x="13010" y="9384"/>
                  <a:pt x="12948" y="9550"/>
                </a:cubicBezTo>
                <a:cubicBezTo>
                  <a:pt x="12948" y="9600"/>
                  <a:pt x="12948" y="9649"/>
                  <a:pt x="12948" y="9699"/>
                </a:cubicBezTo>
                <a:cubicBezTo>
                  <a:pt x="13286" y="9867"/>
                  <a:pt x="13266" y="9668"/>
                  <a:pt x="13320" y="9351"/>
                </a:cubicBezTo>
              </a:path>
              <a:path w="2605" h="720">
                <a:moveTo>
                  <a:pt x="13171" y="9054"/>
                </a:moveTo>
                <a:cubicBezTo>
                  <a:pt x="13232" y="9308"/>
                  <a:pt x="13237" y="9615"/>
                  <a:pt x="13444" y="97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43680" y="3348000"/>
            <a:ext cx="374400" cy="152280"/>
          </a:xfrm>
          <a:custGeom>
            <a:avLst/>
            <a:gdLst/>
            <a:ahLst/>
            <a:rect l="l" t="t" r="r" b="b"/>
            <a:pathLst>
              <a:path w="1042" h="422">
                <a:moveTo>
                  <a:pt x="14436" y="9376"/>
                </a:moveTo>
                <a:cubicBezTo>
                  <a:pt x="14296" y="9358"/>
                  <a:pt x="14241" y="9551"/>
                  <a:pt x="14337" y="9674"/>
                </a:cubicBezTo>
                <a:cubicBezTo>
                  <a:pt x="14370" y="9690"/>
                  <a:pt x="14403" y="9707"/>
                  <a:pt x="14436" y="9723"/>
                </a:cubicBezTo>
                <a:cubicBezTo>
                  <a:pt x="14576" y="9584"/>
                  <a:pt x="14634" y="9525"/>
                  <a:pt x="14486" y="9376"/>
                </a:cubicBezTo>
                <a:cubicBezTo>
                  <a:pt x="14478" y="9368"/>
                  <a:pt x="14469" y="9359"/>
                  <a:pt x="14461" y="9351"/>
                </a:cubicBezTo>
                <a:cubicBezTo>
                  <a:pt x="14730" y="9324"/>
                  <a:pt x="14770" y="9390"/>
                  <a:pt x="14932" y="9599"/>
                </a:cubicBezTo>
                <a:cubicBezTo>
                  <a:pt x="14903" y="9750"/>
                  <a:pt x="14926" y="9414"/>
                  <a:pt x="14932" y="9401"/>
                </a:cubicBezTo>
                <a:cubicBezTo>
                  <a:pt x="15006" y="9328"/>
                  <a:pt x="15030" y="9303"/>
                  <a:pt x="15106" y="9302"/>
                </a:cubicBezTo>
                <a:cubicBezTo>
                  <a:pt x="15204" y="9445"/>
                  <a:pt x="15199" y="9636"/>
                  <a:pt x="15329" y="96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76920" y="3259080"/>
            <a:ext cx="1009800" cy="339840"/>
          </a:xfrm>
          <a:custGeom>
            <a:avLst/>
            <a:gdLst/>
            <a:ahLst/>
            <a:rect l="l" t="t" r="r" b="b"/>
            <a:pathLst>
              <a:path w="2804" h="943">
                <a:moveTo>
                  <a:pt x="16272" y="9401"/>
                </a:moveTo>
                <a:cubicBezTo>
                  <a:pt x="16315" y="9316"/>
                  <a:pt x="16171" y="9267"/>
                  <a:pt x="16098" y="9376"/>
                </a:cubicBezTo>
                <a:cubicBezTo>
                  <a:pt x="15978" y="9555"/>
                  <a:pt x="16151" y="9797"/>
                  <a:pt x="16272" y="9550"/>
                </a:cubicBezTo>
                <a:cubicBezTo>
                  <a:pt x="16280" y="9509"/>
                  <a:pt x="16289" y="9467"/>
                  <a:pt x="16297" y="9426"/>
                </a:cubicBezTo>
                <a:cubicBezTo>
                  <a:pt x="16335" y="9543"/>
                  <a:pt x="16424" y="9665"/>
                  <a:pt x="16570" y="9624"/>
                </a:cubicBezTo>
                <a:cubicBezTo>
                  <a:pt x="16603" y="9599"/>
                  <a:pt x="16636" y="9575"/>
                  <a:pt x="16669" y="9550"/>
                </a:cubicBezTo>
              </a:path>
              <a:path w="2804" h="943">
                <a:moveTo>
                  <a:pt x="16991" y="9525"/>
                </a:moveTo>
                <a:cubicBezTo>
                  <a:pt x="17067" y="9682"/>
                  <a:pt x="17140" y="9839"/>
                  <a:pt x="17214" y="9996"/>
                </a:cubicBezTo>
                <a:cubicBezTo>
                  <a:pt x="17045" y="9940"/>
                  <a:pt x="16950" y="9681"/>
                  <a:pt x="17016" y="9500"/>
                </a:cubicBezTo>
                <a:cubicBezTo>
                  <a:pt x="17117" y="9224"/>
                  <a:pt x="17325" y="9443"/>
                  <a:pt x="17438" y="9525"/>
                </a:cubicBezTo>
                <a:cubicBezTo>
                  <a:pt x="17378" y="9660"/>
                  <a:pt x="17117" y="9907"/>
                  <a:pt x="16991" y="9624"/>
                </a:cubicBezTo>
                <a:cubicBezTo>
                  <a:pt x="17008" y="9599"/>
                  <a:pt x="17024" y="9575"/>
                  <a:pt x="17041" y="9550"/>
                </a:cubicBezTo>
              </a:path>
              <a:path w="2804" h="943">
                <a:moveTo>
                  <a:pt x="17438" y="9054"/>
                </a:moveTo>
                <a:cubicBezTo>
                  <a:pt x="17474" y="9271"/>
                  <a:pt x="17543" y="9497"/>
                  <a:pt x="17636" y="9699"/>
                </a:cubicBezTo>
                <a:cubicBezTo>
                  <a:pt x="17644" y="9707"/>
                  <a:pt x="17653" y="9715"/>
                  <a:pt x="17661" y="9723"/>
                </a:cubicBezTo>
              </a:path>
              <a:path w="2804" h="943">
                <a:moveTo>
                  <a:pt x="18182" y="9550"/>
                </a:moveTo>
                <a:cubicBezTo>
                  <a:pt x="18152" y="9444"/>
                  <a:pt x="18080" y="9297"/>
                  <a:pt x="17934" y="9327"/>
                </a:cubicBezTo>
                <a:cubicBezTo>
                  <a:pt x="17717" y="9372"/>
                  <a:pt x="17803" y="9539"/>
                  <a:pt x="17835" y="9674"/>
                </a:cubicBezTo>
                <a:cubicBezTo>
                  <a:pt x="18037" y="9654"/>
                  <a:pt x="18028" y="9642"/>
                  <a:pt x="18132" y="9451"/>
                </a:cubicBezTo>
                <a:cubicBezTo>
                  <a:pt x="18111" y="9531"/>
                  <a:pt x="18109" y="9675"/>
                  <a:pt x="18231" y="9699"/>
                </a:cubicBezTo>
                <a:cubicBezTo>
                  <a:pt x="18369" y="9726"/>
                  <a:pt x="18448" y="9311"/>
                  <a:pt x="18455" y="9451"/>
                </a:cubicBezTo>
                <a:cubicBezTo>
                  <a:pt x="18455" y="9559"/>
                  <a:pt x="18457" y="9601"/>
                  <a:pt x="18479" y="9674"/>
                </a:cubicBezTo>
                <a:cubicBezTo>
                  <a:pt x="18445" y="9545"/>
                  <a:pt x="18466" y="9505"/>
                  <a:pt x="18504" y="9376"/>
                </a:cubicBezTo>
                <a:cubicBezTo>
                  <a:pt x="18736" y="9376"/>
                  <a:pt x="18752" y="9441"/>
                  <a:pt x="18827" y="9649"/>
                </a:cubicBezTo>
                <a:cubicBezTo>
                  <a:pt x="18835" y="9682"/>
                  <a:pt x="18844" y="9715"/>
                  <a:pt x="18852" y="97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75080" y="3929040"/>
            <a:ext cx="1768680" cy="268200"/>
          </a:xfrm>
          <a:custGeom>
            <a:avLst/>
            <a:gdLst/>
            <a:ahLst/>
            <a:rect l="l" t="t" r="r" b="b"/>
            <a:pathLst>
              <a:path w="4913" h="745">
                <a:moveTo>
                  <a:pt x="12154" y="10914"/>
                </a:moveTo>
                <a:cubicBezTo>
                  <a:pt x="12245" y="11153"/>
                  <a:pt x="12315" y="11447"/>
                  <a:pt x="12452" y="11658"/>
                </a:cubicBezTo>
                <a:cubicBezTo>
                  <a:pt x="12452" y="11650"/>
                  <a:pt x="12452" y="11641"/>
                  <a:pt x="12452" y="11633"/>
                </a:cubicBezTo>
              </a:path>
              <a:path w="4913" h="745">
                <a:moveTo>
                  <a:pt x="13494" y="11311"/>
                </a:moveTo>
                <a:cubicBezTo>
                  <a:pt x="13776" y="11254"/>
                  <a:pt x="14050" y="11216"/>
                  <a:pt x="14337" y="11187"/>
                </a:cubicBezTo>
              </a:path>
              <a:path w="4913" h="745">
                <a:moveTo>
                  <a:pt x="17066" y="11261"/>
                </a:moveTo>
                <a:lnTo>
                  <a:pt x="17066" y="11261"/>
                </a:lnTo>
              </a:path>
              <a:path w="4913" h="745">
                <a:moveTo>
                  <a:pt x="17066" y="11261"/>
                </a:moveTo>
                <a:lnTo>
                  <a:pt x="17066" y="11261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86080" y="3875040"/>
            <a:ext cx="679320" cy="339840"/>
          </a:xfrm>
          <a:custGeom>
            <a:avLst/>
            <a:gdLst/>
            <a:ahLst/>
            <a:rect l="l" t="t" r="r" b="b"/>
            <a:pathLst>
              <a:path w="1886" h="944">
                <a:moveTo>
                  <a:pt x="9327" y="10815"/>
                </a:moveTo>
                <a:cubicBezTo>
                  <a:pt x="9349" y="10792"/>
                  <a:pt x="9357" y="10787"/>
                  <a:pt x="9351" y="10765"/>
                </a:cubicBezTo>
                <a:cubicBezTo>
                  <a:pt x="9369" y="11012"/>
                  <a:pt x="9388" y="11268"/>
                  <a:pt x="9451" y="11509"/>
                </a:cubicBezTo>
                <a:cubicBezTo>
                  <a:pt x="9526" y="11797"/>
                  <a:pt x="9678" y="11689"/>
                  <a:pt x="9872" y="11584"/>
                </a:cubicBezTo>
              </a:path>
              <a:path w="1886" h="944">
                <a:moveTo>
                  <a:pt x="9128" y="11410"/>
                </a:moveTo>
                <a:cubicBezTo>
                  <a:pt x="9390" y="11325"/>
                  <a:pt x="9665" y="11295"/>
                  <a:pt x="9922" y="11212"/>
                </a:cubicBezTo>
                <a:cubicBezTo>
                  <a:pt x="9930" y="11204"/>
                  <a:pt x="9939" y="11195"/>
                  <a:pt x="9947" y="11187"/>
                </a:cubicBezTo>
                <a:cubicBezTo>
                  <a:pt x="9883" y="11379"/>
                  <a:pt x="9858" y="11417"/>
                  <a:pt x="9922" y="11609"/>
                </a:cubicBezTo>
                <a:cubicBezTo>
                  <a:pt x="10061" y="11617"/>
                  <a:pt x="10336" y="11565"/>
                  <a:pt x="10244" y="11336"/>
                </a:cubicBezTo>
                <a:cubicBezTo>
                  <a:pt x="10190" y="11200"/>
                  <a:pt x="10035" y="11200"/>
                  <a:pt x="9922" y="11187"/>
                </a:cubicBezTo>
              </a:path>
              <a:path w="1886" h="944">
                <a:moveTo>
                  <a:pt x="10592" y="11237"/>
                </a:moveTo>
                <a:cubicBezTo>
                  <a:pt x="10385" y="11284"/>
                  <a:pt x="10387" y="11383"/>
                  <a:pt x="10368" y="11584"/>
                </a:cubicBezTo>
                <a:cubicBezTo>
                  <a:pt x="10457" y="11603"/>
                  <a:pt x="10901" y="11587"/>
                  <a:pt x="10716" y="11361"/>
                </a:cubicBezTo>
                <a:cubicBezTo>
                  <a:pt x="10593" y="11299"/>
                  <a:pt x="10571" y="11283"/>
                  <a:pt x="10492" y="11261"/>
                </a:cubicBezTo>
              </a:path>
              <a:path w="1886" h="944">
                <a:moveTo>
                  <a:pt x="10740" y="10864"/>
                </a:moveTo>
                <a:cubicBezTo>
                  <a:pt x="10818" y="11097"/>
                  <a:pt x="10898" y="11330"/>
                  <a:pt x="10988" y="11559"/>
                </a:cubicBezTo>
                <a:cubicBezTo>
                  <a:pt x="11008" y="11600"/>
                  <a:pt x="11017" y="11627"/>
                  <a:pt x="11013" y="1158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21080" y="3929040"/>
            <a:ext cx="679680" cy="268200"/>
          </a:xfrm>
          <a:custGeom>
            <a:avLst/>
            <a:gdLst/>
            <a:ahLst/>
            <a:rect l="l" t="t" r="r" b="b"/>
            <a:pathLst>
              <a:path w="1887" h="745">
                <a:moveTo>
                  <a:pt x="12005" y="11410"/>
                </a:moveTo>
                <a:cubicBezTo>
                  <a:pt x="12233" y="11417"/>
                  <a:pt x="12670" y="11456"/>
                  <a:pt x="12650" y="11088"/>
                </a:cubicBezTo>
                <a:cubicBezTo>
                  <a:pt x="12638" y="10867"/>
                  <a:pt x="12519" y="10856"/>
                  <a:pt x="12650" y="11237"/>
                </a:cubicBezTo>
                <a:cubicBezTo>
                  <a:pt x="12683" y="11328"/>
                  <a:pt x="12717" y="11418"/>
                  <a:pt x="12750" y="11509"/>
                </a:cubicBezTo>
                <a:cubicBezTo>
                  <a:pt x="12758" y="11534"/>
                  <a:pt x="12766" y="11559"/>
                  <a:pt x="12774" y="11584"/>
                </a:cubicBezTo>
                <a:cubicBezTo>
                  <a:pt x="12744" y="11408"/>
                  <a:pt x="12718" y="11318"/>
                  <a:pt x="12824" y="11137"/>
                </a:cubicBezTo>
                <a:cubicBezTo>
                  <a:pt x="13012" y="11219"/>
                  <a:pt x="13200" y="11344"/>
                  <a:pt x="13146" y="11609"/>
                </a:cubicBezTo>
                <a:cubicBezTo>
                  <a:pt x="13138" y="11601"/>
                  <a:pt x="13130" y="11592"/>
                  <a:pt x="13122" y="11584"/>
                </a:cubicBezTo>
              </a:path>
              <a:path w="1887" h="745">
                <a:moveTo>
                  <a:pt x="13494" y="11261"/>
                </a:moveTo>
                <a:cubicBezTo>
                  <a:pt x="13357" y="11177"/>
                  <a:pt x="13183" y="11362"/>
                  <a:pt x="13196" y="11534"/>
                </a:cubicBezTo>
                <a:cubicBezTo>
                  <a:pt x="13214" y="11781"/>
                  <a:pt x="13454" y="11431"/>
                  <a:pt x="13469" y="11361"/>
                </a:cubicBezTo>
                <a:cubicBezTo>
                  <a:pt x="13502" y="11546"/>
                  <a:pt x="13501" y="11535"/>
                  <a:pt x="13667" y="11609"/>
                </a:cubicBezTo>
                <a:cubicBezTo>
                  <a:pt x="13753" y="11459"/>
                  <a:pt x="13867" y="11181"/>
                  <a:pt x="13692" y="11013"/>
                </a:cubicBezTo>
                <a:cubicBezTo>
                  <a:pt x="13700" y="11038"/>
                  <a:pt x="13709" y="11063"/>
                  <a:pt x="13717" y="11088"/>
                </a:cubicBezTo>
                <a:cubicBezTo>
                  <a:pt x="13737" y="11160"/>
                  <a:pt x="13849" y="11635"/>
                  <a:pt x="13891" y="1163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84880" y="3983040"/>
            <a:ext cx="1312920" cy="204840"/>
          </a:xfrm>
          <a:custGeom>
            <a:avLst/>
            <a:gdLst/>
            <a:ahLst/>
            <a:rect l="l" t="t" r="r" b="b"/>
            <a:pathLst>
              <a:path w="3648" h="571">
                <a:moveTo>
                  <a:pt x="14957" y="11112"/>
                </a:moveTo>
                <a:cubicBezTo>
                  <a:pt x="15015" y="11247"/>
                  <a:pt x="15020" y="11429"/>
                  <a:pt x="15032" y="11584"/>
                </a:cubicBezTo>
                <a:cubicBezTo>
                  <a:pt x="15000" y="11494"/>
                  <a:pt x="14857" y="11018"/>
                  <a:pt x="15156" y="11112"/>
                </a:cubicBezTo>
                <a:cubicBezTo>
                  <a:pt x="15306" y="11159"/>
                  <a:pt x="15336" y="11388"/>
                  <a:pt x="15379" y="11509"/>
                </a:cubicBezTo>
                <a:cubicBezTo>
                  <a:pt x="15328" y="11408"/>
                  <a:pt x="15313" y="11186"/>
                  <a:pt x="15404" y="11088"/>
                </a:cubicBezTo>
                <a:cubicBezTo>
                  <a:pt x="15597" y="10880"/>
                  <a:pt x="15705" y="11385"/>
                  <a:pt x="15726" y="11460"/>
                </a:cubicBezTo>
                <a:cubicBezTo>
                  <a:pt x="15734" y="11485"/>
                  <a:pt x="15743" y="11509"/>
                  <a:pt x="15751" y="11534"/>
                </a:cubicBezTo>
              </a:path>
              <a:path w="3648" h="571">
                <a:moveTo>
                  <a:pt x="15999" y="11336"/>
                </a:moveTo>
                <a:cubicBezTo>
                  <a:pt x="16094" y="11317"/>
                  <a:pt x="16202" y="11333"/>
                  <a:pt x="16297" y="11311"/>
                </a:cubicBezTo>
                <a:cubicBezTo>
                  <a:pt x="16305" y="11303"/>
                  <a:pt x="16313" y="11294"/>
                  <a:pt x="16321" y="11286"/>
                </a:cubicBezTo>
                <a:cubicBezTo>
                  <a:pt x="16184" y="11138"/>
                  <a:pt x="16028" y="11056"/>
                  <a:pt x="15999" y="11361"/>
                </a:cubicBezTo>
                <a:cubicBezTo>
                  <a:pt x="15972" y="11646"/>
                  <a:pt x="16211" y="11550"/>
                  <a:pt x="16371" y="11534"/>
                </a:cubicBezTo>
              </a:path>
              <a:path w="3648" h="571">
                <a:moveTo>
                  <a:pt x="16718" y="11286"/>
                </a:moveTo>
                <a:cubicBezTo>
                  <a:pt x="16703" y="11206"/>
                  <a:pt x="16688" y="11217"/>
                  <a:pt x="16619" y="11162"/>
                </a:cubicBezTo>
                <a:cubicBezTo>
                  <a:pt x="16381" y="11297"/>
                  <a:pt x="16402" y="11396"/>
                  <a:pt x="16520" y="11633"/>
                </a:cubicBezTo>
                <a:cubicBezTo>
                  <a:pt x="16654" y="11515"/>
                  <a:pt x="16669" y="11490"/>
                  <a:pt x="16718" y="11311"/>
                </a:cubicBezTo>
                <a:cubicBezTo>
                  <a:pt x="16726" y="11370"/>
                  <a:pt x="16750" y="11573"/>
                  <a:pt x="16867" y="11509"/>
                </a:cubicBezTo>
                <a:cubicBezTo>
                  <a:pt x="16900" y="11476"/>
                  <a:pt x="16933" y="11443"/>
                  <a:pt x="16966" y="11410"/>
                </a:cubicBezTo>
              </a:path>
              <a:path w="3648" h="571">
                <a:moveTo>
                  <a:pt x="16942" y="11162"/>
                </a:moveTo>
                <a:cubicBezTo>
                  <a:pt x="16917" y="11179"/>
                  <a:pt x="16892" y="11195"/>
                  <a:pt x="16867" y="11212"/>
                </a:cubicBezTo>
                <a:cubicBezTo>
                  <a:pt x="16867" y="11362"/>
                  <a:pt x="17041" y="11311"/>
                  <a:pt x="17140" y="11410"/>
                </a:cubicBezTo>
                <a:cubicBezTo>
                  <a:pt x="17157" y="11443"/>
                  <a:pt x="17173" y="11476"/>
                  <a:pt x="17190" y="11509"/>
                </a:cubicBezTo>
                <a:cubicBezTo>
                  <a:pt x="16970" y="11606"/>
                  <a:pt x="16854" y="11645"/>
                  <a:pt x="16867" y="11410"/>
                </a:cubicBezTo>
              </a:path>
              <a:path w="3648" h="571">
                <a:moveTo>
                  <a:pt x="17165" y="11187"/>
                </a:moveTo>
                <a:cubicBezTo>
                  <a:pt x="17165" y="11321"/>
                  <a:pt x="17188" y="11415"/>
                  <a:pt x="17289" y="11509"/>
                </a:cubicBezTo>
                <a:cubicBezTo>
                  <a:pt x="17297" y="11509"/>
                  <a:pt x="17306" y="11509"/>
                  <a:pt x="17314" y="11509"/>
                </a:cubicBezTo>
                <a:cubicBezTo>
                  <a:pt x="17352" y="11392"/>
                  <a:pt x="17363" y="11314"/>
                  <a:pt x="17363" y="11187"/>
                </a:cubicBezTo>
                <a:cubicBezTo>
                  <a:pt x="17386" y="11293"/>
                  <a:pt x="17424" y="11435"/>
                  <a:pt x="17512" y="11435"/>
                </a:cubicBezTo>
              </a:path>
              <a:path w="3648" h="571">
                <a:moveTo>
                  <a:pt x="17512" y="11336"/>
                </a:moveTo>
                <a:cubicBezTo>
                  <a:pt x="17531" y="11410"/>
                  <a:pt x="17539" y="11417"/>
                  <a:pt x="17537" y="11460"/>
                </a:cubicBezTo>
                <a:cubicBezTo>
                  <a:pt x="17466" y="11319"/>
                  <a:pt x="17474" y="11204"/>
                  <a:pt x="17636" y="11137"/>
                </a:cubicBezTo>
                <a:cubicBezTo>
                  <a:pt x="17752" y="11114"/>
                  <a:pt x="17785" y="11103"/>
                  <a:pt x="17859" y="11137"/>
                </a:cubicBezTo>
              </a:path>
              <a:path w="3648" h="571">
                <a:moveTo>
                  <a:pt x="17959" y="11261"/>
                </a:moveTo>
                <a:cubicBezTo>
                  <a:pt x="18014" y="11261"/>
                  <a:pt x="18092" y="11282"/>
                  <a:pt x="18107" y="11237"/>
                </a:cubicBezTo>
                <a:cubicBezTo>
                  <a:pt x="17941" y="11160"/>
                  <a:pt x="17741" y="11243"/>
                  <a:pt x="17835" y="11485"/>
                </a:cubicBezTo>
                <a:cubicBezTo>
                  <a:pt x="17962" y="11580"/>
                  <a:pt x="18029" y="11597"/>
                  <a:pt x="18157" y="11509"/>
                </a:cubicBezTo>
              </a:path>
              <a:path w="3648" h="571">
                <a:moveTo>
                  <a:pt x="18430" y="11137"/>
                </a:moveTo>
                <a:cubicBezTo>
                  <a:pt x="18308" y="11178"/>
                  <a:pt x="18279" y="11174"/>
                  <a:pt x="18231" y="11237"/>
                </a:cubicBezTo>
                <a:cubicBezTo>
                  <a:pt x="18435" y="11314"/>
                  <a:pt x="18532" y="11317"/>
                  <a:pt x="18604" y="11509"/>
                </a:cubicBezTo>
                <a:cubicBezTo>
                  <a:pt x="18377" y="11585"/>
                  <a:pt x="17928" y="11704"/>
                  <a:pt x="18281" y="1141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29280" y="3919680"/>
            <a:ext cx="849600" cy="455400"/>
          </a:xfrm>
          <a:custGeom>
            <a:avLst/>
            <a:gdLst/>
            <a:ahLst/>
            <a:rect l="l" t="t" r="r" b="b"/>
            <a:pathLst>
              <a:path w="2358" h="1266">
                <a:moveTo>
                  <a:pt x="19397" y="11286"/>
                </a:moveTo>
                <a:cubicBezTo>
                  <a:pt x="19275" y="11212"/>
                  <a:pt x="19213" y="11368"/>
                  <a:pt x="19248" y="11485"/>
                </a:cubicBezTo>
                <a:cubicBezTo>
                  <a:pt x="19327" y="11754"/>
                  <a:pt x="19434" y="11448"/>
                  <a:pt x="19447" y="11361"/>
                </a:cubicBezTo>
                <a:cubicBezTo>
                  <a:pt x="19518" y="11502"/>
                  <a:pt x="19592" y="11584"/>
                  <a:pt x="19745" y="11485"/>
                </a:cubicBezTo>
                <a:cubicBezTo>
                  <a:pt x="19863" y="11409"/>
                  <a:pt x="19819" y="11410"/>
                  <a:pt x="19819" y="11559"/>
                </a:cubicBezTo>
                <a:cubicBezTo>
                  <a:pt x="19710" y="11451"/>
                  <a:pt x="19797" y="11326"/>
                  <a:pt x="19869" y="11212"/>
                </a:cubicBezTo>
                <a:cubicBezTo>
                  <a:pt x="20102" y="11270"/>
                  <a:pt x="20148" y="11329"/>
                  <a:pt x="20117" y="11584"/>
                </a:cubicBezTo>
              </a:path>
              <a:path w="2358" h="1266">
                <a:moveTo>
                  <a:pt x="20489" y="11237"/>
                </a:moveTo>
                <a:cubicBezTo>
                  <a:pt x="20293" y="11366"/>
                  <a:pt x="20234" y="11385"/>
                  <a:pt x="20191" y="11534"/>
                </a:cubicBezTo>
                <a:cubicBezTo>
                  <a:pt x="20384" y="11599"/>
                  <a:pt x="20436" y="11484"/>
                  <a:pt x="20538" y="11311"/>
                </a:cubicBezTo>
                <a:cubicBezTo>
                  <a:pt x="20561" y="11542"/>
                  <a:pt x="20773" y="11721"/>
                  <a:pt x="20762" y="11956"/>
                </a:cubicBezTo>
                <a:cubicBezTo>
                  <a:pt x="20745" y="12323"/>
                  <a:pt x="20097" y="12130"/>
                  <a:pt x="20067" y="11857"/>
                </a:cubicBezTo>
                <a:cubicBezTo>
                  <a:pt x="20100" y="11782"/>
                  <a:pt x="20133" y="11708"/>
                  <a:pt x="20166" y="11633"/>
                </a:cubicBezTo>
              </a:path>
              <a:path w="2358" h="1266">
                <a:moveTo>
                  <a:pt x="20588" y="10889"/>
                </a:moveTo>
                <a:cubicBezTo>
                  <a:pt x="20600" y="11073"/>
                  <a:pt x="20574" y="11387"/>
                  <a:pt x="20712" y="11534"/>
                </a:cubicBezTo>
                <a:cubicBezTo>
                  <a:pt x="20853" y="11685"/>
                  <a:pt x="20935" y="11365"/>
                  <a:pt x="20960" y="11311"/>
                </a:cubicBezTo>
                <a:cubicBezTo>
                  <a:pt x="20960" y="11243"/>
                  <a:pt x="20966" y="11216"/>
                  <a:pt x="20910" y="11261"/>
                </a:cubicBezTo>
                <a:cubicBezTo>
                  <a:pt x="20901" y="11453"/>
                  <a:pt x="20974" y="11640"/>
                  <a:pt x="21208" y="11460"/>
                </a:cubicBezTo>
                <a:cubicBezTo>
                  <a:pt x="21353" y="11348"/>
                  <a:pt x="21323" y="11282"/>
                  <a:pt x="21382" y="11137"/>
                </a:cubicBezTo>
                <a:cubicBezTo>
                  <a:pt x="21458" y="11215"/>
                  <a:pt x="21582" y="11297"/>
                  <a:pt x="21605" y="11410"/>
                </a:cubicBezTo>
                <a:cubicBezTo>
                  <a:pt x="21648" y="11618"/>
                  <a:pt x="21176" y="11559"/>
                  <a:pt x="21431" y="1155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Angle-Side-Angl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is type of construction, you are provided wi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wo angle measur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length of one sid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your triangl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, draw the si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xt, create one angle on the lef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n, create the other angle on the r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wo sides are created where they interse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3657600"/>
            <a:ext cx="236232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4419720"/>
            <a:ext cx="236232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5334120"/>
            <a:ext cx="236232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29400" y="6629400"/>
            <a:ext cx="236232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6400440" y="41907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867280" y="3352680"/>
            <a:ext cx="2133720" cy="10670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53080" y="4267080"/>
            <a:ext cx="213372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81532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7162920" y="4571640"/>
            <a:ext cx="1752480" cy="7621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629400" y="6095880"/>
            <a:ext cx="10666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7695720" y="6095880"/>
            <a:ext cx="12956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67000" y="6188040"/>
            <a:ext cx="1440" cy="9720"/>
          </a:xfrm>
          <a:custGeom>
            <a:avLst/>
            <a:gdLst/>
            <a:ahLst/>
            <a:rect l="l" t="t" r="r" b="b"/>
            <a:pathLst>
              <a:path w="1" h="25">
                <a:moveTo>
                  <a:pt x="6573" y="17214"/>
                </a:moveTo>
                <a:lnTo>
                  <a:pt x="6573" y="17214"/>
                </a:lnTo>
              </a:path>
              <a:path w="1" h="25">
                <a:moveTo>
                  <a:pt x="6573" y="17214"/>
                </a:moveTo>
                <a:cubicBezTo>
                  <a:pt x="6573" y="17206"/>
                  <a:pt x="6573" y="17198"/>
                  <a:pt x="6573" y="1719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ngle-Side-Angle 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t’s apply these steps to the following clues: 4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°, 103° and a side that’s 3 inches lo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mewor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tractor Work W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dd Numbered Probl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20:08:12Z</dcterms:created>
  <dc:creator>TAMMY  COON</dc:creator>
  <dc:description/>
  <dc:language>en-US</dc:language>
  <cp:lastModifiedBy>demcgra</cp:lastModifiedBy>
  <dcterms:modified xsi:type="dcterms:W3CDTF">2012-02-01T20:19:40Z</dcterms:modified>
  <cp:revision>18</cp:revision>
  <dc:subject/>
  <dc:title>Unit 6: Geometry</dc:title>
</cp:coreProperties>
</file>